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wmf" ContentType="image/x-wmf"/>
  <Override PartName="/ppt/media/projctor.wav" ContentType="audio/x-wav"/>
  <Override PartName="/ppt/media/image14.png" ContentType="image/png"/>
  <Override PartName="/ppt/media/CHIMES.WAV" ContentType="audio/x-wav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D81C-24C5-4CCB-B2E3-396B692C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873-AD59-4827-831B-5D9DFD3D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79D-6F50-4A8E-9167-B8E566EDA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B0E5-3443-4F52-B5B0-87A0D6E74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89F8-FA2E-4EAF-AA7C-37707161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447-079B-4CC2-885F-695CB626C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4C1-424D-402C-AB24-17669DC5A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16AC-3259-4317-B4A2-B90E0460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F92-E37D-4C2C-B602-0EFC2F9D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A62C-5AA9-460E-8F66-B581E6EB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8C3-EFCC-4607-A71F-BBBB4331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6345-9ED4-43C2-98B2-451343535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C5BE-D09E-4969-A184-6D09D819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532F-2110-4633-94D1-DC017761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B4D3-F935-442E-A5FF-571426969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C862-E315-44C3-A604-1A0B431D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22F4-AF22-40ED-8E55-ADB0B8345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C294-E6B8-45E4-944A-BCA5763F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B446-3C0A-47C8-942B-0D0FC74C9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B1D2-5D4C-4223-89EE-86A9D65E4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0FA5-4774-4D5C-8483-86D50AE08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927-F92A-4D97-83D3-A04A8506C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AF5-074F-4D0C-9293-D9FD64C8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B0A7-645E-4638-9DEE-0448C9D06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2A1A-4640-43D7-B563-3AB4E632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CAE-DE55-4CDB-84AE-56FDC9FAE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D308-8FCA-42A7-A32D-485F82AEB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FFA-F92A-4F69-A3E3-15014A4E7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063B-034A-47C3-8260-9A19234F2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45C1-8DCC-4E28-9D7A-09CE9682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1955-51F7-4561-A715-6385D6D0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8BD-E592-473F-9CD4-C65D0E41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2CD8-D35D-47BD-9A20-5A1BBFBE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F99-F88B-463C-B258-58D0EA423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B07-DDA2-4BC1-8622-8287E71D3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75C2-16AF-495D-8D22-F2AAB80F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181F-42E3-4030-BF8F-E5C7A97D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0AD-BC13-420B-BCAD-3DBBF9D0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4469-EBF5-4071-9B1B-0BE83D19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8A37-3BF5-4EC8-BFD9-AD8A745C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E5B-2ED0-4CAA-82A8-57EFA85B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0A8-0608-4728-9E1B-C158E54E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F67F-C62E-427F-8B9D-3C1A677C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90A5-7092-4FA6-BBA0-7CEF42CC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8EAA-38CE-4082-A7FB-22D98BF58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9B72-7CCE-49EF-B2F6-7C8B78BE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081-2FDB-4EC6-A69F-F7B172762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79B-506E-4190-8FD6-FA090A99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2D1F-88CE-4CDA-9E4F-D0D9FFB1E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5095-AE73-4016-BC29-11631B196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B71-3424-4510-99D9-D4D6949B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1892-9886-4D12-85B0-4C4591ED1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2C31-E24C-441A-84B4-F0E7FCEF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9F60-0831-45C0-A3F2-B36AF1BC4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0BA-93A8-494B-A3BC-31FC1AC87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D0C-8963-4050-8700-5AA664AB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0057-FDFA-44FF-B996-1AFAA966F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72B9-CCE6-4587-9460-D5316D19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6C83-1ED9-47C7-8EE3-9913A7D3C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CC8-0890-4690-8D89-52774F7FF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85ED-B23F-43E2-8DED-00B80D331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5B69-B44A-4F9D-9921-A2D5798EC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F72-9F69-4E8F-9554-209F0238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2E6-DFFF-42E4-B04C-23FF0239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FF2D-D93C-4A80-85FB-C8F6AD32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DE02-520D-4148-9224-42236EF35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A531-109E-4045-933A-8FD1A0FF9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E5C3-FD8A-4C90-B6E3-10C8395A5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888D-EE14-44E1-A3E4-7F93E3A2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9AA-BD27-457E-BA17-AD7D52ABA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86F3-3E9A-433C-8D68-CB2A3E05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4F13-3A83-478D-A3EC-D1634138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5360-1BEA-4E3F-B8A0-8064C0FC8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7B50-5E91-4478-A9AE-6B16DB60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B6D7-A9C3-42D6-B014-A46735D00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CFAE-CE7B-465D-8AB1-4F917766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1AD8-06E0-4362-AC83-8B0F144D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8680-8AD6-422C-98EA-07B0376AE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36C9-C874-4ACE-9929-8581DE4DB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D8BA-0014-4813-9EEB-FAED067C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0C33-5F30-4F77-9DCD-56555080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A9BE-CB3A-4312-B340-783F4756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D13-705A-493B-B0B1-FE09F4534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0D16-EA3C-4ED0-9E0A-2CF19011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DDE0-DBA9-47F0-BAD1-5CA5BD3A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DB28-665B-48AE-9348-9CFC5A677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FBED-17B9-4779-A7B7-29E714CE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B87D-0C88-4569-91E6-FC044263C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2219-8BD6-4135-933F-9CB0EF7F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C92F-A26C-4CD9-8A8B-AD91C9278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1729-8570-45C2-80CA-CFC21E75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6CD0-BEA8-4F58-BF21-030CA47A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A61-B4B9-4FC2-A91A-D2312950B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CA36-5AC5-4752-93E9-1A26A439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53B-E03E-4C98-A4D3-73030CEB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3096-54A7-4B62-9B27-E8C86B32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C158-F196-4A29-9C6B-B0AA78C3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491-F1C7-446F-BD7D-B675107E2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47B5-B2B5-4C58-B78F-CF7FB5A20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1BE-9388-4BF5-91EB-DED0B3CE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0223-0933-4459-9E06-99052FE4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4297-6ED6-4310-95C8-9F6F0EDE1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C576-D66F-4419-A90C-FA477588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9D11-DF7A-409E-A736-99293981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E702-D178-4D15-A9A9-DF2BA8A88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9DA-A790-4255-8334-514A86A46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0F1-4F15-4043-AF4B-266FB332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B89-779C-44DE-9C54-3CF6C8A0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295-FB53-42F6-BA65-359A163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325-4282-430C-9BF9-44210FB4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97B-0AF2-4579-B06D-E111D762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7E6-1FEA-4612-9AFA-FFB251A0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95C-A533-4D79-9D21-23E78FC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D63-42E2-4528-A283-ACD642E4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9EF-8B53-4752-8882-F8C73643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C33-6D55-453D-A111-85B0F34E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5D0-31BA-4E10-BFBF-F06E5BAD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457-D73D-47B0-A4AF-AB97FCB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A49-FC2D-4EE8-AAFF-8194D73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8441-BF31-48A2-B7C4-93F0E2C0E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" Target="slide69.xml"/><Relationship Id="rId23" Type="http://schemas.openxmlformats.org/officeDocument/2006/relationships/slide" Target="slide72.xml"/><Relationship Id="rId24" Type="http://schemas.openxmlformats.org/officeDocument/2006/relationships/slide" Target="slide75.xml"/><Relationship Id="rId25" Type="http://schemas.openxmlformats.org/officeDocument/2006/relationships/slide" Target="slide54.xml"/><Relationship Id="rId26" Type="http://schemas.openxmlformats.org/officeDocument/2006/relationships/slide" Target="slide54.xml"/><Relationship Id="rId27" Type="http://schemas.openxmlformats.org/officeDocument/2006/relationships/slide" Target="slide78.xml"/><Relationship Id="rId28" Type="http://schemas.openxmlformats.org/officeDocument/2006/relationships/slide" Target="slide54.xml"/><Relationship Id="rId29" Type="http://schemas.openxmlformats.org/officeDocument/2006/relationships/slide" Target="slide81.xml"/><Relationship Id="rId30" Type="http://schemas.openxmlformats.org/officeDocument/2006/relationships/slide" Target="slide84.xml"/><Relationship Id="rId31" Type="http://schemas.openxmlformats.org/officeDocument/2006/relationships/slide" Target="slide87.xml"/><Relationship Id="rId32" Type="http://schemas.openxmlformats.org/officeDocument/2006/relationships/slide" Target="slide90.xml"/><Relationship Id="rId33" Type="http://schemas.openxmlformats.org/officeDocument/2006/relationships/slide" Target="slide93.xml"/><Relationship Id="rId34" Type="http://schemas.openxmlformats.org/officeDocument/2006/relationships/slide" Target="slide96.xml"/><Relationship Id="rId35" Type="http://schemas.openxmlformats.org/officeDocument/2006/relationships/slide" Target="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7.xml"/><Relationship Id="rId9" Type="http://schemas.openxmlformats.org/officeDocument/2006/relationships/slide" Target="slide30.xml"/><Relationship Id="rId10" Type="http://schemas.openxmlformats.org/officeDocument/2006/relationships/slide" Target="slide33.xml"/><Relationship Id="rId11" Type="http://schemas.openxmlformats.org/officeDocument/2006/relationships/slide" Target="slide36.xml"/><Relationship Id="rId12" Type="http://schemas.openxmlformats.org/officeDocument/2006/relationships/slide" Target="slide39.xml"/><Relationship Id="rId13" Type="http://schemas.openxmlformats.org/officeDocument/2006/relationships/slide" Target="slide27.xml"/><Relationship Id="rId14" Type="http://schemas.openxmlformats.org/officeDocument/2006/relationships/slide" Target="slide42.xml"/><Relationship Id="rId15" Type="http://schemas.openxmlformats.org/officeDocument/2006/relationships/slide" Target="slide31.xml"/><Relationship Id="rId16" Type="http://schemas.openxmlformats.org/officeDocument/2006/relationships/slide" Target="slide48.xml"/><Relationship Id="rId17" Type="http://schemas.openxmlformats.org/officeDocument/2006/relationships/slide" Target="slide51.xml"/><Relationship Id="rId18" Type="http://schemas.openxmlformats.org/officeDocument/2006/relationships/slide" Target="slide54.xml"/><Relationship Id="rId19" Type="http://schemas.openxmlformats.org/officeDocument/2006/relationships/slide" Target="slide57.xml"/><Relationship Id="rId20" Type="http://schemas.openxmlformats.org/officeDocument/2006/relationships/slide" Target="slide60.xml"/><Relationship Id="rId21" Type="http://schemas.openxmlformats.org/officeDocument/2006/relationships/slide" Target="slide63.xml"/><Relationship Id="rId22" Type="http://schemas.openxmlformats.org/officeDocument/2006/relationships/slide" Target="slide66.xml"/><Relationship Id="rId23" Type="http://schemas.openxmlformats.org/officeDocument/2006/relationships/slide" Target="slide69.xml"/><Relationship Id="rId24" Type="http://schemas.openxmlformats.org/officeDocument/2006/relationships/slide" Target="slide72.xml"/><Relationship Id="rId25" Type="http://schemas.openxmlformats.org/officeDocument/2006/relationships/slide" Target="slide75.xml"/><Relationship Id="rId26" Type="http://schemas.openxmlformats.org/officeDocument/2006/relationships/slide" Target="slide54.xml"/><Relationship Id="rId27" Type="http://schemas.openxmlformats.org/officeDocument/2006/relationships/slide" Target="slide54.xml"/><Relationship Id="rId28" Type="http://schemas.openxmlformats.org/officeDocument/2006/relationships/slide" Target="slide78.xml"/><Relationship Id="rId29" Type="http://schemas.openxmlformats.org/officeDocument/2006/relationships/slide" Target="slide54.xml"/><Relationship Id="rId30" Type="http://schemas.openxmlformats.org/officeDocument/2006/relationships/slide" Target="slide81.xml"/><Relationship Id="rId31" Type="http://schemas.openxmlformats.org/officeDocument/2006/relationships/slide" Target="slide84.xml"/><Relationship Id="rId32" Type="http://schemas.openxmlformats.org/officeDocument/2006/relationships/slide" Target="slide87.xml"/><Relationship Id="rId33" Type="http://schemas.openxmlformats.org/officeDocument/2006/relationships/slide" Target="slide90.xml"/><Relationship Id="rId34" Type="http://schemas.openxmlformats.org/officeDocument/2006/relationships/slide" Target="slide93.xml"/><Relationship Id="rId35" Type="http://schemas.openxmlformats.org/officeDocument/2006/relationships/slide" Target="slide96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" Target="slide69.xml"/><Relationship Id="rId23" Type="http://schemas.openxmlformats.org/officeDocument/2006/relationships/slide" Target="slide72.xml"/><Relationship Id="rId24" Type="http://schemas.openxmlformats.org/officeDocument/2006/relationships/slide" Target="slide75.xml"/><Relationship Id="rId25" Type="http://schemas.openxmlformats.org/officeDocument/2006/relationships/slide" Target="slide54.xml"/><Relationship Id="rId26" Type="http://schemas.openxmlformats.org/officeDocument/2006/relationships/slide" Target="slide54.xml"/><Relationship Id="rId27" Type="http://schemas.openxmlformats.org/officeDocument/2006/relationships/slide" Target="slide78.xml"/><Relationship Id="rId28" Type="http://schemas.openxmlformats.org/officeDocument/2006/relationships/slide" Target="slide54.xml"/><Relationship Id="rId29" Type="http://schemas.openxmlformats.org/officeDocument/2006/relationships/slide" Target="slide81.xml"/><Relationship Id="rId30" Type="http://schemas.openxmlformats.org/officeDocument/2006/relationships/slide" Target="slide84.xml"/><Relationship Id="rId31" Type="http://schemas.openxmlformats.org/officeDocument/2006/relationships/slide" Target="slide87.xml"/><Relationship Id="rId32" Type="http://schemas.openxmlformats.org/officeDocument/2006/relationships/slide" Target="slide90.xml"/><Relationship Id="rId33" Type="http://schemas.openxmlformats.org/officeDocument/2006/relationships/slide" Target="slide93.xml"/><Relationship Id="rId34" Type="http://schemas.openxmlformats.org/officeDocument/2006/relationships/slide" Target="slide96.xml"/><Relationship Id="rId35" Type="http://schemas.openxmlformats.org/officeDocument/2006/relationships/slide" Target="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7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" Target="slide69.xml"/><Relationship Id="rId23" Type="http://schemas.openxmlformats.org/officeDocument/2006/relationships/slide" Target="slide72.xml"/><Relationship Id="rId24" Type="http://schemas.openxmlformats.org/officeDocument/2006/relationships/slide" Target="slide75.xml"/><Relationship Id="rId25" Type="http://schemas.openxmlformats.org/officeDocument/2006/relationships/slide" Target="slide54.xml"/><Relationship Id="rId26" Type="http://schemas.openxmlformats.org/officeDocument/2006/relationships/slide" Target="slide54.xml"/><Relationship Id="rId27" Type="http://schemas.openxmlformats.org/officeDocument/2006/relationships/slide" Target="slide78.xml"/><Relationship Id="rId28" Type="http://schemas.openxmlformats.org/officeDocument/2006/relationships/slide" Target="slide54.xml"/><Relationship Id="rId29" Type="http://schemas.openxmlformats.org/officeDocument/2006/relationships/slide" Target="slide81.xml"/><Relationship Id="rId30" Type="http://schemas.openxmlformats.org/officeDocument/2006/relationships/slide" Target="slide84.xml"/><Relationship Id="rId31" Type="http://schemas.openxmlformats.org/officeDocument/2006/relationships/slide" Target="slide87.xml"/><Relationship Id="rId32" Type="http://schemas.openxmlformats.org/officeDocument/2006/relationships/slide" Target="slide90.xml"/><Relationship Id="rId33" Type="http://schemas.openxmlformats.org/officeDocument/2006/relationships/slide" Target="slide93.xml"/><Relationship Id="rId34" Type="http://schemas.openxmlformats.org/officeDocument/2006/relationships/slide" Target="slide96.xml"/><Relationship Id="rId35" Type="http://schemas.openxmlformats.org/officeDocument/2006/relationships/slide" Target="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724280" y="609480"/>
            <a:ext cx="4191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pic>
        <p:nvPicPr>
          <p:cNvPr id="51" name="jeopardy.wav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8"/>
          <p:cNvSpPr/>
          <p:nvPr/>
        </p:nvSpPr>
        <p:spPr>
          <a:xfrm>
            <a:off x="5029200" y="609480"/>
            <a:ext cx="3347640" cy="119124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WELCOME TO 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JEOPARDY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4745880" y="1981080"/>
            <a:ext cx="4255920" cy="173988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TEST YOUR SKILLS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WITH VOCAB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CHAPTERS 7-12!!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95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026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habilitat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1027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9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" name="AutoShape 1030"/>
          <p:cNvSpPr/>
          <p:nvPr/>
        </p:nvSpPr>
        <p:spPr>
          <a:xfrm>
            <a:off x="0" y="3962520"/>
            <a:ext cx="9144000" cy="2895480"/>
          </a:xfrm>
          <a:custGeom>
            <a:avLst/>
            <a:gdLst>
              <a:gd name="textAreaLeft" fmla="*/ 187560 w 9144000"/>
              <a:gd name="textAreaRight" fmla="*/ 8956440 w 9144000"/>
              <a:gd name="textAreaTop" fmla="*/ 187560 h 2895480"/>
              <a:gd name="textAreaBottom" fmla="*/ 2707920 h 2895480"/>
            </a:gdLst>
            <a:ahLst/>
            <a:rect l="textAreaLeft" t="textAreaTop" r="textAreaRight" b="textAreaBottom"/>
            <a:pathLst>
              <a:path w="68208" h="21600">
                <a:moveTo>
                  <a:pt x="0" y="0"/>
                </a:moveTo>
                <a:lnTo>
                  <a:pt x="68208" y="0"/>
                </a:lnTo>
                <a:lnTo>
                  <a:pt x="68208" y="21600"/>
                </a:lnTo>
                <a:lnTo>
                  <a:pt x="0" y="21600"/>
                </a:lnTo>
                <a:close/>
              </a:path>
              <a:path fill="lightenLess" w="68208" h="21600">
                <a:moveTo>
                  <a:pt x="0" y="0"/>
                </a:moveTo>
                <a:lnTo>
                  <a:pt x="68208" y="0"/>
                </a:lnTo>
                <a:lnTo>
                  <a:pt x="66808" y="1400"/>
                </a:lnTo>
                <a:lnTo>
                  <a:pt x="1400" y="1400"/>
                </a:lnTo>
                <a:close/>
              </a:path>
              <a:path fill="darken" w="68208" h="21600">
                <a:moveTo>
                  <a:pt x="68208" y="0"/>
                </a:moveTo>
                <a:lnTo>
                  <a:pt x="68208" y="21600"/>
                </a:lnTo>
                <a:lnTo>
                  <a:pt x="66808" y="20200"/>
                </a:lnTo>
                <a:lnTo>
                  <a:pt x="66808" y="1400"/>
                </a:lnTo>
                <a:close/>
              </a:path>
              <a:path fill="darkenLess" w="68208" h="21600">
                <a:moveTo>
                  <a:pt x="68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08" y="20200"/>
                </a:lnTo>
                <a:close/>
              </a:path>
              <a:path fill="lighten" w="68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6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462" name="WordArt 7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es Mercutio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y to the Capulet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 Montague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he is stabbed b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balt and dying?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64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9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4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0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3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6" name="AutoShape 74">
            <a:hlinkClick r:id="rId35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WordArt 2"/>
          <p:cNvSpPr txBox="1"/>
          <p:nvPr/>
        </p:nvSpPr>
        <p:spPr>
          <a:xfrm>
            <a:off x="914400" y="198108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plague on bot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houses!"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3" name="AutoShape 5">
            <a:hlinkClick r:id="rId1" action="ppaction://hlinksldjump"/>
          </p:cNvPr>
          <p:cNvSpPr/>
          <p:nvPr/>
        </p:nvSpPr>
        <p:spPr>
          <a:xfrm>
            <a:off x="380880" y="3505320"/>
            <a:ext cx="8305920" cy="2971800"/>
          </a:xfrm>
          <a:custGeom>
            <a:avLst/>
            <a:gdLst>
              <a:gd name="textAreaLeft" fmla="*/ 192600 w 8305920"/>
              <a:gd name="textAreaRight" fmla="*/ 8113320 w 8305920"/>
              <a:gd name="textAreaTop" fmla="*/ 192600 h 2971800"/>
              <a:gd name="textAreaBottom" fmla="*/ 2779200 h 2971800"/>
            </a:gdLst>
            <a:ahLst/>
            <a:rect l="textAreaLeft" t="textAreaTop" r="textAreaRight" b="textAreaBottom"/>
            <a:pathLst>
              <a:path w="60365" h="21600">
                <a:moveTo>
                  <a:pt x="0" y="0"/>
                </a:moveTo>
                <a:lnTo>
                  <a:pt x="60365" y="0"/>
                </a:lnTo>
                <a:lnTo>
                  <a:pt x="60365" y="21600"/>
                </a:lnTo>
                <a:lnTo>
                  <a:pt x="0" y="21600"/>
                </a:lnTo>
                <a:close/>
              </a:path>
              <a:path fill="lightenLess" w="60365" h="21600">
                <a:moveTo>
                  <a:pt x="0" y="0"/>
                </a:moveTo>
                <a:lnTo>
                  <a:pt x="60365" y="0"/>
                </a:lnTo>
                <a:lnTo>
                  <a:pt x="58965" y="1400"/>
                </a:lnTo>
                <a:lnTo>
                  <a:pt x="1400" y="1400"/>
                </a:lnTo>
                <a:close/>
              </a:path>
              <a:path fill="darken" w="60365" h="21600">
                <a:moveTo>
                  <a:pt x="60365" y="0"/>
                </a:moveTo>
                <a:lnTo>
                  <a:pt x="60365" y="21600"/>
                </a:lnTo>
                <a:lnTo>
                  <a:pt x="58965" y="20200"/>
                </a:lnTo>
                <a:lnTo>
                  <a:pt x="58965" y="1400"/>
                </a:lnTo>
                <a:close/>
              </a:path>
              <a:path fill="darkenLess" w="60365" h="21600">
                <a:moveTo>
                  <a:pt x="60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65" y="20200"/>
                </a:lnTo>
                <a:close/>
              </a:path>
              <a:path fill="lighten" w="60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WordArt 2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0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0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0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9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6" name="AutoShape 74"/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3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54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546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>
              <a:gd name="textAreaLeft" fmla="*/ 211680 w 685800"/>
              <a:gd name="textAreaRight" fmla="*/ 474120 w 68580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4" y="685798"/>
                </a:lnTo>
                <a:lnTo>
                  <a:pt x="342900" y="523901"/>
                </a:lnTo>
                <a:lnTo>
                  <a:pt x="130976" y="685798"/>
                </a:lnTo>
                <a:lnTo>
                  <a:pt x="211926" y="4238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7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8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9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0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1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2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3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4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5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689" fill="hold"/>
                                        <p:tgtEl>
                                          <p:spTgt spid="1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89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89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914400" y="1523880"/>
            <a:ext cx="7467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vary irregularly,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/down, back/fort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1026"/>
          <p:cNvSpPr txBox="1"/>
          <p:nvPr/>
        </p:nvSpPr>
        <p:spPr>
          <a:xfrm>
            <a:off x="1600200" y="2057400"/>
            <a:ext cx="6019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luctuat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WordArt 1027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29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" name="AutoShape 1030">
            <a:hlinkClick r:id="rId1" action="ppaction://hlinksldjump"/>
          </p:cNvPr>
          <p:cNvSpPr/>
          <p:nvPr/>
        </p:nvSpPr>
        <p:spPr>
          <a:xfrm>
            <a:off x="0" y="3048120"/>
            <a:ext cx="9144000" cy="3809880"/>
          </a:xfrm>
          <a:custGeom>
            <a:avLst/>
            <a:gdLst>
              <a:gd name="textAreaLeft" fmla="*/ 246600 w 9144000"/>
              <a:gd name="textAreaRight" fmla="*/ 8897400 w 9144000"/>
              <a:gd name="textAreaTop" fmla="*/ 246600 h 3809880"/>
              <a:gd name="textAreaBottom" fmla="*/ 3563280 h 3809880"/>
            </a:gdLst>
            <a:ahLst/>
            <a:rect l="textAreaLeft" t="textAreaTop" r="textAreaRight" b="textAreaBottom"/>
            <a:pathLst>
              <a:path w="51839" h="21600">
                <a:moveTo>
                  <a:pt x="0" y="0"/>
                </a:moveTo>
                <a:lnTo>
                  <a:pt x="51839" y="0"/>
                </a:lnTo>
                <a:lnTo>
                  <a:pt x="51839" y="21600"/>
                </a:lnTo>
                <a:lnTo>
                  <a:pt x="0" y="21600"/>
                </a:lnTo>
                <a:close/>
              </a:path>
              <a:path fill="lightenLess" w="51839" h="21600">
                <a:moveTo>
                  <a:pt x="0" y="0"/>
                </a:moveTo>
                <a:lnTo>
                  <a:pt x="51839" y="0"/>
                </a:lnTo>
                <a:lnTo>
                  <a:pt x="50439" y="1400"/>
                </a:lnTo>
                <a:lnTo>
                  <a:pt x="1400" y="1400"/>
                </a:lnTo>
                <a:close/>
              </a:path>
              <a:path fill="darken" w="51839" h="21600">
                <a:moveTo>
                  <a:pt x="51839" y="0"/>
                </a:moveTo>
                <a:lnTo>
                  <a:pt x="51839" y="21600"/>
                </a:lnTo>
                <a:lnTo>
                  <a:pt x="50439" y="20200"/>
                </a:lnTo>
                <a:lnTo>
                  <a:pt x="50439" y="1400"/>
                </a:lnTo>
                <a:close/>
              </a:path>
              <a:path fill="darkenLess" w="51839" h="21600">
                <a:moveTo>
                  <a:pt x="51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9" y="20200"/>
                </a:lnTo>
                <a:close/>
              </a:path>
              <a:path fill="lighten" w="51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WordArt 2" descr=""/>
          <p:cNvPicPr/>
          <p:nvPr/>
        </p:nvPicPr>
        <p:blipFill>
          <a:blip r:embed="rId1"/>
          <a:stretch/>
        </p:blipFill>
        <p:spPr>
          <a:xfrm>
            <a:off x="749160" y="1359000"/>
            <a:ext cx="757260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1026"/>
          <p:cNvSpPr txBox="1"/>
          <p:nvPr/>
        </p:nvSpPr>
        <p:spPr>
          <a:xfrm>
            <a:off x="1143000" y="2514600"/>
            <a:ext cx="6553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1027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29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96" name="AutoShape 1030">
            <a:hlinkClick r:id="rId1" action="ppaction://hlinksldjump"/>
          </p:cNvPr>
          <p:cNvSpPr/>
          <p:nvPr/>
        </p:nvSpPr>
        <p:spPr>
          <a:xfrm>
            <a:off x="0" y="4648320"/>
            <a:ext cx="9144000" cy="2209680"/>
          </a:xfrm>
          <a:custGeom>
            <a:avLst/>
            <a:gdLst>
              <a:gd name="textAreaLeft" fmla="*/ 142920 w 9144000"/>
              <a:gd name="textAreaRight" fmla="*/ 9001080 w 914400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89373" h="21600">
                <a:moveTo>
                  <a:pt x="0" y="0"/>
                </a:moveTo>
                <a:lnTo>
                  <a:pt x="89373" y="0"/>
                </a:lnTo>
                <a:lnTo>
                  <a:pt x="89373" y="21600"/>
                </a:lnTo>
                <a:lnTo>
                  <a:pt x="0" y="21600"/>
                </a:lnTo>
                <a:close/>
              </a:path>
              <a:path fill="lightenLess" w="89373" h="21600">
                <a:moveTo>
                  <a:pt x="0" y="0"/>
                </a:moveTo>
                <a:lnTo>
                  <a:pt x="89373" y="0"/>
                </a:lnTo>
                <a:lnTo>
                  <a:pt x="87973" y="1400"/>
                </a:lnTo>
                <a:lnTo>
                  <a:pt x="1400" y="1400"/>
                </a:lnTo>
                <a:close/>
              </a:path>
              <a:path fill="darken" w="89373" h="21600">
                <a:moveTo>
                  <a:pt x="89373" y="0"/>
                </a:moveTo>
                <a:lnTo>
                  <a:pt x="89373" y="21600"/>
                </a:lnTo>
                <a:lnTo>
                  <a:pt x="87973" y="20200"/>
                </a:lnTo>
                <a:lnTo>
                  <a:pt x="87973" y="1400"/>
                </a:lnTo>
                <a:close/>
              </a:path>
              <a:path fill="darkenLess" w="89373" h="21600">
                <a:moveTo>
                  <a:pt x="89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73" y="20200"/>
                </a:lnTo>
                <a:close/>
              </a:path>
              <a:path fill="lighten" w="89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9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WordArt 2" descr=""/>
          <p:cNvPicPr/>
          <p:nvPr/>
        </p:nvPicPr>
        <p:blipFill>
          <a:blip r:embed="rId1"/>
          <a:stretch/>
        </p:blipFill>
        <p:spPr>
          <a:xfrm>
            <a:off x="901800" y="1212840"/>
            <a:ext cx="7413480" cy="4511520"/>
          </a:xfrm>
          <a:prstGeom prst="rect">
            <a:avLst/>
          </a:prstGeom>
          <a:ln w="0">
            <a:noFill/>
          </a:ln>
        </p:spPr>
      </p:pic>
      <p:sp>
        <p:nvSpPr>
          <p:cNvPr id="235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914400" y="18288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onder)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0" y="4495680"/>
            <a:ext cx="9144000" cy="2362320"/>
          </a:xfrm>
          <a:custGeom>
            <a:avLst/>
            <a:gdLst>
              <a:gd name="textAreaLeft" fmla="*/ 153000 w 9144000"/>
              <a:gd name="textAreaRight" fmla="*/ 8991000 w 91440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83599" h="21600">
                <a:moveTo>
                  <a:pt x="0" y="0"/>
                </a:moveTo>
                <a:lnTo>
                  <a:pt x="83599" y="0"/>
                </a:lnTo>
                <a:lnTo>
                  <a:pt x="83599" y="21600"/>
                </a:lnTo>
                <a:lnTo>
                  <a:pt x="0" y="21600"/>
                </a:lnTo>
                <a:close/>
              </a:path>
              <a:path fill="lightenLess" w="83599" h="21600">
                <a:moveTo>
                  <a:pt x="0" y="0"/>
                </a:moveTo>
                <a:lnTo>
                  <a:pt x="83599" y="0"/>
                </a:lnTo>
                <a:lnTo>
                  <a:pt x="82199" y="1400"/>
                </a:lnTo>
                <a:lnTo>
                  <a:pt x="1400" y="1400"/>
                </a:lnTo>
                <a:close/>
              </a:path>
              <a:path fill="darken" w="83599" h="21600">
                <a:moveTo>
                  <a:pt x="83599" y="0"/>
                </a:moveTo>
                <a:lnTo>
                  <a:pt x="83599" y="21600"/>
                </a:lnTo>
                <a:lnTo>
                  <a:pt x="82199" y="20200"/>
                </a:lnTo>
                <a:lnTo>
                  <a:pt x="82199" y="1400"/>
                </a:lnTo>
                <a:close/>
              </a:path>
              <a:path fill="darkenLess" w="83599" h="21600">
                <a:moveTo>
                  <a:pt x="83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199" y="20200"/>
                </a:lnTo>
                <a:close/>
              </a:path>
              <a:path fill="lighten" w="83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990720" y="1523880"/>
            <a:ext cx="71625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6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867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6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3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WordArt 2" descr=""/>
          <p:cNvPicPr/>
          <p:nvPr/>
        </p:nvPicPr>
        <p:blipFill>
          <a:blip r:embed="rId1"/>
          <a:stretch/>
        </p:blipFill>
        <p:spPr>
          <a:xfrm>
            <a:off x="981000" y="1133640"/>
            <a:ext cx="7108920" cy="4822560"/>
          </a:xfrm>
          <a:prstGeom prst="rect">
            <a:avLst/>
          </a:prstGeom>
          <a:ln w="0">
            <a:noFill/>
          </a:ln>
        </p:spPr>
      </p:pic>
      <p:sp>
        <p:nvSpPr>
          <p:cNvPr id="28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990720" y="2133720"/>
            <a:ext cx="7238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86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914400" y="1676520"/>
            <a:ext cx="7238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mpires are _____;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are active a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ght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914400" y="2209680"/>
            <a:ext cx="7315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cturnal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0" y="3886200"/>
            <a:ext cx="9144000" cy="2971800"/>
          </a:xfrm>
          <a:custGeom>
            <a:avLst/>
            <a:gdLst>
              <a:gd name="textAreaLeft" fmla="*/ 192600 w 9144000"/>
              <a:gd name="textAreaRight" fmla="*/ 8951400 w 9144000"/>
              <a:gd name="textAreaTop" fmla="*/ 192600 h 2971800"/>
              <a:gd name="textAreaBottom" fmla="*/ 2779200 h 2971800"/>
            </a:gdLst>
            <a:ahLst/>
            <a:rect l="textAreaLeft" t="textAreaTop" r="textAreaRight" b="textAreaBottom"/>
            <a:pathLst>
              <a:path w="66456" h="21600">
                <a:moveTo>
                  <a:pt x="0" y="0"/>
                </a:moveTo>
                <a:lnTo>
                  <a:pt x="66456" y="0"/>
                </a:lnTo>
                <a:lnTo>
                  <a:pt x="66456" y="21600"/>
                </a:lnTo>
                <a:lnTo>
                  <a:pt x="0" y="21600"/>
                </a:lnTo>
                <a:close/>
              </a:path>
              <a:path fill="lightenLess" w="66456" h="21600">
                <a:moveTo>
                  <a:pt x="0" y="0"/>
                </a:moveTo>
                <a:lnTo>
                  <a:pt x="66456" y="0"/>
                </a:lnTo>
                <a:lnTo>
                  <a:pt x="65056" y="1400"/>
                </a:lnTo>
                <a:lnTo>
                  <a:pt x="1400" y="1400"/>
                </a:lnTo>
                <a:close/>
              </a:path>
              <a:path fill="darken" w="66456" h="21600">
                <a:moveTo>
                  <a:pt x="66456" y="0"/>
                </a:moveTo>
                <a:lnTo>
                  <a:pt x="66456" y="21600"/>
                </a:lnTo>
                <a:lnTo>
                  <a:pt x="65056" y="20200"/>
                </a:lnTo>
                <a:lnTo>
                  <a:pt x="65056" y="1400"/>
                </a:lnTo>
                <a:close/>
              </a:path>
              <a:path fill="darkenLess" w="66456" h="21600">
                <a:moveTo>
                  <a:pt x="66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056" y="20200"/>
                </a:lnTo>
                <a:close/>
              </a:path>
              <a:path fill="lighten" w="66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5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8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0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1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2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3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4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5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6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7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8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9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0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1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2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3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5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6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7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8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9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0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1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2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3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4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5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6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7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8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9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2"/>
          <p:cNvSpPr txBox="1"/>
          <p:nvPr/>
        </p:nvSpPr>
        <p:spPr>
          <a:xfrm>
            <a:off x="838080" y="914400"/>
            <a:ext cx="76201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_________ed my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acher’s aide to the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e to  bu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 some Cheetos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2"/>
          <p:cNvSpPr txBox="1"/>
          <p:nvPr/>
        </p:nvSpPr>
        <p:spPr>
          <a:xfrm>
            <a:off x="990720" y="2514600"/>
            <a:ext cx="71625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patc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77" name="AutoShape 6">
            <a:hlinkClick r:id="rId1" action="ppaction://hlinksldjump"/>
          </p:cNvPr>
          <p:cNvSpPr/>
          <p:nvPr/>
        </p:nvSpPr>
        <p:spPr>
          <a:xfrm>
            <a:off x="0" y="3352680"/>
            <a:ext cx="9144000" cy="2210040"/>
          </a:xfrm>
          <a:custGeom>
            <a:avLst/>
            <a:gdLst>
              <a:gd name="textAreaLeft" fmla="*/ 142920 w 9144000"/>
              <a:gd name="textAreaRight" fmla="*/ 9001080 w 914400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89359" h="21600">
                <a:moveTo>
                  <a:pt x="0" y="0"/>
                </a:moveTo>
                <a:lnTo>
                  <a:pt x="89359" y="0"/>
                </a:lnTo>
                <a:lnTo>
                  <a:pt x="89359" y="21600"/>
                </a:lnTo>
                <a:lnTo>
                  <a:pt x="0" y="21600"/>
                </a:lnTo>
                <a:close/>
              </a:path>
              <a:path fill="lightenLess" w="89359" h="21600">
                <a:moveTo>
                  <a:pt x="0" y="0"/>
                </a:moveTo>
                <a:lnTo>
                  <a:pt x="89359" y="0"/>
                </a:lnTo>
                <a:lnTo>
                  <a:pt x="87959" y="1400"/>
                </a:lnTo>
                <a:lnTo>
                  <a:pt x="1400" y="1400"/>
                </a:lnTo>
                <a:close/>
              </a:path>
              <a:path fill="darken" w="89359" h="21600">
                <a:moveTo>
                  <a:pt x="89359" y="0"/>
                </a:moveTo>
                <a:lnTo>
                  <a:pt x="89359" y="21600"/>
                </a:lnTo>
                <a:lnTo>
                  <a:pt x="87959" y="20200"/>
                </a:lnTo>
                <a:lnTo>
                  <a:pt x="87959" y="1400"/>
                </a:lnTo>
                <a:close/>
              </a:path>
              <a:path fill="darkenLess" w="89359" h="21600">
                <a:moveTo>
                  <a:pt x="8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59" y="20200"/>
                </a:lnTo>
                <a:close/>
              </a:path>
              <a:path fill="lighten" w="8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9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0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1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2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3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4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6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7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8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9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0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1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2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3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5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6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7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8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9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0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1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2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3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4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5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6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7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8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9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10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1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2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3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4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5"/>
          <p:cNvSpPr txBox="1"/>
          <p:nvPr/>
        </p:nvSpPr>
        <p:spPr>
          <a:xfrm>
            <a:off x="1066680" y="2590920"/>
            <a:ext cx="7010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WordArt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85920" y="1206360"/>
            <a:ext cx="6572160" cy="48229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2"/>
          <p:cNvSpPr txBox="1"/>
          <p:nvPr/>
        </p:nvSpPr>
        <p:spPr>
          <a:xfrm>
            <a:off x="990720" y="2133720"/>
            <a:ext cx="7086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nigma)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2" name="AutoShape 6">
            <a:hlinkClick r:id="rId1" action="ppaction://hlinksldjump"/>
          </p:cNvPr>
          <p:cNvSpPr/>
          <p:nvPr/>
        </p:nvSpPr>
        <p:spPr>
          <a:xfrm>
            <a:off x="0" y="2514600"/>
            <a:ext cx="9144000" cy="4114800"/>
          </a:xfrm>
          <a:custGeom>
            <a:avLst/>
            <a:gdLst>
              <a:gd name="textAreaLeft" fmla="*/ 266400 w 9144000"/>
              <a:gd name="textAreaRight" fmla="*/ 8877600 w 9144000"/>
              <a:gd name="textAreaTop" fmla="*/ 266400 h 4114800"/>
              <a:gd name="textAreaBottom" fmla="*/ 3848400 h 4114800"/>
            </a:gdLst>
            <a:ahLst/>
            <a:rect l="textAreaLeft" t="textAreaTop" r="textAreaRight" b="textAreaBottom"/>
            <a:pathLst>
              <a:path w="47998" h="21600">
                <a:moveTo>
                  <a:pt x="0" y="0"/>
                </a:moveTo>
                <a:lnTo>
                  <a:pt x="47998" y="0"/>
                </a:lnTo>
                <a:lnTo>
                  <a:pt x="47998" y="21600"/>
                </a:lnTo>
                <a:lnTo>
                  <a:pt x="0" y="21600"/>
                </a:lnTo>
                <a:close/>
              </a:path>
              <a:path fill="lightenLess" w="47998" h="21600">
                <a:moveTo>
                  <a:pt x="0" y="0"/>
                </a:moveTo>
                <a:lnTo>
                  <a:pt x="47998" y="0"/>
                </a:lnTo>
                <a:lnTo>
                  <a:pt x="46598" y="1400"/>
                </a:lnTo>
                <a:lnTo>
                  <a:pt x="1400" y="1400"/>
                </a:lnTo>
                <a:close/>
              </a:path>
              <a:path fill="darken" w="47998" h="21600">
                <a:moveTo>
                  <a:pt x="47998" y="0"/>
                </a:moveTo>
                <a:lnTo>
                  <a:pt x="47998" y="21600"/>
                </a:lnTo>
                <a:lnTo>
                  <a:pt x="46598" y="20200"/>
                </a:lnTo>
                <a:lnTo>
                  <a:pt x="46598" y="1400"/>
                </a:lnTo>
                <a:close/>
              </a:path>
              <a:path fill="darkenLess" w="47998" h="21600">
                <a:moveTo>
                  <a:pt x="4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8" y="20200"/>
                </a:lnTo>
                <a:close/>
              </a:path>
              <a:path fill="lighten" w="4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4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5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6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7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8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9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0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1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2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3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4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5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6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7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8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9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0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1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2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3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4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5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6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7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8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9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0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1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2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3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4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5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6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7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8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9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WordArt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01800" y="1285920"/>
            <a:ext cx="7340400" cy="4822920"/>
          </a:xfrm>
          <a:prstGeom prst="rect">
            <a:avLst/>
          </a:prstGeom>
          <a:ln w="0">
            <a:noFill/>
          </a:ln>
        </p:spPr>
      </p:pic>
      <p:sp>
        <p:nvSpPr>
          <p:cNvPr id="4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2"/>
          <p:cNvSpPr txBox="1"/>
          <p:nvPr/>
        </p:nvSpPr>
        <p:spPr>
          <a:xfrm>
            <a:off x="1143000" y="1828800"/>
            <a:ext cx="69343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67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9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0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1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2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3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5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7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8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0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2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3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5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6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7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8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9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0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1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2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3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4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5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6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7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8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9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00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1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2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3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WordArt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8720" y="1139760"/>
            <a:ext cx="7638840" cy="4969080"/>
          </a:xfrm>
          <a:prstGeom prst="rect">
            <a:avLst/>
          </a:prstGeom>
          <a:ln w="0">
            <a:noFill/>
          </a:ln>
        </p:spPr>
      </p:pic>
      <p:sp>
        <p:nvSpPr>
          <p:cNvPr id="5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2"/>
          <p:cNvSpPr txBox="1"/>
          <p:nvPr/>
        </p:nvSpPr>
        <p:spPr>
          <a:xfrm>
            <a:off x="1600200" y="228600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2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0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1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2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3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4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5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6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7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8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1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2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3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4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5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6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7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8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9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0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1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2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3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4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5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6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7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8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9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2"/>
          <p:cNvSpPr txBox="1"/>
          <p:nvPr/>
        </p:nvSpPr>
        <p:spPr>
          <a:xfrm>
            <a:off x="1143000" y="18288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___________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me of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ry Your Own Skis”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to be responsible fo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things in life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1066680" y="2286000"/>
            <a:ext cx="7086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2"/>
          <p:cNvSpPr txBox="1"/>
          <p:nvPr/>
        </p:nvSpPr>
        <p:spPr>
          <a:xfrm>
            <a:off x="1143000" y="1828800"/>
            <a:ext cx="7010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domin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58" name="AutoShape 6">
            <a:hlinkClick r:id="rId1" action="ppaction://hlinksldjump"/>
          </p:cNvPr>
          <p:cNvSpPr/>
          <p:nvPr/>
        </p:nvSpPr>
        <p:spPr>
          <a:xfrm>
            <a:off x="0" y="2743200"/>
            <a:ext cx="9144000" cy="4114800"/>
          </a:xfrm>
          <a:custGeom>
            <a:avLst/>
            <a:gdLst>
              <a:gd name="textAreaLeft" fmla="*/ 266400 w 9144000"/>
              <a:gd name="textAreaRight" fmla="*/ 8877600 w 9144000"/>
              <a:gd name="textAreaTop" fmla="*/ 266400 h 4114800"/>
              <a:gd name="textAreaBottom" fmla="*/ 3848400 h 4114800"/>
            </a:gdLst>
            <a:ahLst/>
            <a:rect l="textAreaLeft" t="textAreaTop" r="textAreaRight" b="textAreaBottom"/>
            <a:pathLst>
              <a:path w="47998" h="21600">
                <a:moveTo>
                  <a:pt x="0" y="0"/>
                </a:moveTo>
                <a:lnTo>
                  <a:pt x="47998" y="0"/>
                </a:lnTo>
                <a:lnTo>
                  <a:pt x="47998" y="21600"/>
                </a:lnTo>
                <a:lnTo>
                  <a:pt x="0" y="21600"/>
                </a:lnTo>
                <a:close/>
              </a:path>
              <a:path fill="lightenLess" w="47998" h="21600">
                <a:moveTo>
                  <a:pt x="0" y="0"/>
                </a:moveTo>
                <a:lnTo>
                  <a:pt x="47998" y="0"/>
                </a:lnTo>
                <a:lnTo>
                  <a:pt x="46598" y="1400"/>
                </a:lnTo>
                <a:lnTo>
                  <a:pt x="1400" y="1400"/>
                </a:lnTo>
                <a:close/>
              </a:path>
              <a:path fill="darken" w="47998" h="21600">
                <a:moveTo>
                  <a:pt x="47998" y="0"/>
                </a:moveTo>
                <a:lnTo>
                  <a:pt x="47998" y="21600"/>
                </a:lnTo>
                <a:lnTo>
                  <a:pt x="46598" y="20200"/>
                </a:lnTo>
                <a:lnTo>
                  <a:pt x="46598" y="1400"/>
                </a:lnTo>
                <a:close/>
              </a:path>
              <a:path fill="darkenLess" w="47998" h="21600">
                <a:moveTo>
                  <a:pt x="4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8" y="20200"/>
                </a:lnTo>
                <a:close/>
              </a:path>
              <a:path fill="lighten" w="4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90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91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2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3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4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5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WordArt 2" descr=""/>
          <p:cNvPicPr/>
          <p:nvPr/>
        </p:nvPicPr>
        <p:blipFill>
          <a:blip r:embed="rId1"/>
          <a:stretch/>
        </p:blipFill>
        <p:spPr>
          <a:xfrm>
            <a:off x="1359000" y="1663560"/>
            <a:ext cx="6804000" cy="3225960"/>
          </a:xfrm>
          <a:prstGeom prst="rect">
            <a:avLst/>
          </a:prstGeom>
          <a:ln w="0">
            <a:noFill/>
          </a:ln>
        </p:spPr>
      </p:pic>
      <p:sp>
        <p:nvSpPr>
          <p:cNvPr id="59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1447920" y="1828800"/>
            <a:ext cx="64767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3" name="AutoShape 6">
            <a:hlinkClick r:id="rId1" action="ppaction://hlinksldjump"/>
          </p:cNvPr>
          <p:cNvSpPr/>
          <p:nvPr/>
        </p:nvSpPr>
        <p:spPr>
          <a:xfrm>
            <a:off x="0" y="3048120"/>
            <a:ext cx="9144000" cy="3809880"/>
          </a:xfrm>
          <a:custGeom>
            <a:avLst/>
            <a:gdLst>
              <a:gd name="textAreaLeft" fmla="*/ 246600 w 9144000"/>
              <a:gd name="textAreaRight" fmla="*/ 8897400 w 9144000"/>
              <a:gd name="textAreaTop" fmla="*/ 246600 h 3809880"/>
              <a:gd name="textAreaBottom" fmla="*/ 3563280 h 3809880"/>
            </a:gdLst>
            <a:ahLst/>
            <a:rect l="textAreaLeft" t="textAreaTop" r="textAreaRight" b="textAreaBottom"/>
            <a:pathLst>
              <a:path w="51839" h="21600">
                <a:moveTo>
                  <a:pt x="0" y="0"/>
                </a:moveTo>
                <a:lnTo>
                  <a:pt x="51839" y="0"/>
                </a:lnTo>
                <a:lnTo>
                  <a:pt x="51839" y="21600"/>
                </a:lnTo>
                <a:lnTo>
                  <a:pt x="0" y="21600"/>
                </a:lnTo>
                <a:close/>
              </a:path>
              <a:path fill="lightenLess" w="51839" h="21600">
                <a:moveTo>
                  <a:pt x="0" y="0"/>
                </a:moveTo>
                <a:lnTo>
                  <a:pt x="51839" y="0"/>
                </a:lnTo>
                <a:lnTo>
                  <a:pt x="50439" y="1400"/>
                </a:lnTo>
                <a:lnTo>
                  <a:pt x="1400" y="1400"/>
                </a:lnTo>
                <a:close/>
              </a:path>
              <a:path fill="darken" w="51839" h="21600">
                <a:moveTo>
                  <a:pt x="51839" y="0"/>
                </a:moveTo>
                <a:lnTo>
                  <a:pt x="51839" y="21600"/>
                </a:lnTo>
                <a:lnTo>
                  <a:pt x="50439" y="20200"/>
                </a:lnTo>
                <a:lnTo>
                  <a:pt x="50439" y="1400"/>
                </a:lnTo>
                <a:close/>
              </a:path>
              <a:path fill="darkenLess" w="51839" h="21600">
                <a:moveTo>
                  <a:pt x="51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9" y="20200"/>
                </a:lnTo>
                <a:close/>
              </a:path>
              <a:path fill="lighten" w="51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5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6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7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8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9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0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9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0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1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2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6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7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8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9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0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1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2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3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4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5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6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7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8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9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40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WordArt 2" descr=""/>
          <p:cNvPicPr/>
          <p:nvPr/>
        </p:nvPicPr>
        <p:blipFill>
          <a:blip r:embed="rId1"/>
          <a:stretch/>
        </p:blipFill>
        <p:spPr>
          <a:xfrm>
            <a:off x="1054080" y="1511280"/>
            <a:ext cx="6883560" cy="3755880"/>
          </a:xfrm>
          <a:prstGeom prst="rect">
            <a:avLst/>
          </a:prstGeom>
          <a:ln w="0">
            <a:noFill/>
          </a:ln>
        </p:spPr>
      </p:pic>
      <p:sp>
        <p:nvSpPr>
          <p:cNvPr id="64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1066680" y="1981080"/>
            <a:ext cx="7010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constitute)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48" name="AutoShape 6">
            <a:hlinkClick r:id="rId1" action="ppaction://hlinksldjump"/>
          </p:cNvPr>
          <p:cNvSpPr/>
          <p:nvPr/>
        </p:nvSpPr>
        <p:spPr>
          <a:xfrm>
            <a:off x="0" y="3809880"/>
            <a:ext cx="9144000" cy="3048120"/>
          </a:xfrm>
          <a:custGeom>
            <a:avLst/>
            <a:gdLst>
              <a:gd name="textAreaLeft" fmla="*/ 197280 w 9144000"/>
              <a:gd name="textAreaRight" fmla="*/ 8946720 w 9144000"/>
              <a:gd name="textAreaTop" fmla="*/ 197280 h 3048120"/>
              <a:gd name="textAreaBottom" fmla="*/ 2850840 h 3048120"/>
            </a:gdLst>
            <a:ahLst/>
            <a:rect l="textAreaLeft" t="textAreaTop" r="textAreaRight" b="textAreaBottom"/>
            <a:pathLst>
              <a:path w="64792" h="21600">
                <a:moveTo>
                  <a:pt x="0" y="0"/>
                </a:moveTo>
                <a:lnTo>
                  <a:pt x="64792" y="0"/>
                </a:lnTo>
                <a:lnTo>
                  <a:pt x="64792" y="21600"/>
                </a:lnTo>
                <a:lnTo>
                  <a:pt x="0" y="21600"/>
                </a:lnTo>
                <a:close/>
              </a:path>
              <a:path fill="lightenLess" w="64792" h="21600">
                <a:moveTo>
                  <a:pt x="0" y="0"/>
                </a:moveTo>
                <a:lnTo>
                  <a:pt x="64792" y="0"/>
                </a:lnTo>
                <a:lnTo>
                  <a:pt x="63392" y="1400"/>
                </a:lnTo>
                <a:lnTo>
                  <a:pt x="1400" y="1400"/>
                </a:lnTo>
                <a:close/>
              </a:path>
              <a:path fill="darken" w="64792" h="21600">
                <a:moveTo>
                  <a:pt x="64792" y="0"/>
                </a:moveTo>
                <a:lnTo>
                  <a:pt x="64792" y="21600"/>
                </a:lnTo>
                <a:lnTo>
                  <a:pt x="63392" y="20200"/>
                </a:lnTo>
                <a:lnTo>
                  <a:pt x="63392" y="1400"/>
                </a:lnTo>
                <a:close/>
              </a:path>
              <a:path fill="darkenLess" w="64792" h="21600">
                <a:moveTo>
                  <a:pt x="6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2" y="20200"/>
                </a:lnTo>
                <a:close/>
              </a:path>
              <a:path fill="lighten" w="6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5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9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80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81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2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3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4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5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WordArt 2"/>
          <p:cNvSpPr txBox="1"/>
          <p:nvPr/>
        </p:nvSpPr>
        <p:spPr>
          <a:xfrm>
            <a:off x="1219320" y="1371600"/>
            <a:ext cx="7010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r. E's handwriting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hard to _________;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 is very messy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WordArt 2"/>
          <p:cNvSpPr txBox="1"/>
          <p:nvPr/>
        </p:nvSpPr>
        <p:spPr>
          <a:xfrm>
            <a:off x="914400" y="220968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iphe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3" name="AutoShape 6">
            <a:hlinkClick r:id="rId1" action="ppaction://hlinksldjump"/>
          </p:cNvPr>
          <p:cNvSpPr/>
          <p:nvPr/>
        </p:nvSpPr>
        <p:spPr>
          <a:xfrm>
            <a:off x="0" y="4648320"/>
            <a:ext cx="9144000" cy="1447560"/>
          </a:xfrm>
          <a:custGeom>
            <a:avLst/>
            <a:gdLst>
              <a:gd name="textAreaLeft" fmla="*/ 93600 w 9144000"/>
              <a:gd name="textAreaRight" fmla="*/ 9050400 w 91440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136415" h="21600">
                <a:moveTo>
                  <a:pt x="0" y="0"/>
                </a:moveTo>
                <a:lnTo>
                  <a:pt x="136415" y="0"/>
                </a:lnTo>
                <a:lnTo>
                  <a:pt x="136415" y="21600"/>
                </a:lnTo>
                <a:lnTo>
                  <a:pt x="0" y="21600"/>
                </a:lnTo>
                <a:close/>
              </a:path>
              <a:path fill="lightenLess" w="136415" h="21600">
                <a:moveTo>
                  <a:pt x="0" y="0"/>
                </a:moveTo>
                <a:lnTo>
                  <a:pt x="136415" y="0"/>
                </a:lnTo>
                <a:lnTo>
                  <a:pt x="135015" y="1400"/>
                </a:lnTo>
                <a:lnTo>
                  <a:pt x="1400" y="1400"/>
                </a:lnTo>
                <a:close/>
              </a:path>
              <a:path fill="darken" w="136415" h="21600">
                <a:moveTo>
                  <a:pt x="136415" y="0"/>
                </a:moveTo>
                <a:lnTo>
                  <a:pt x="136415" y="21600"/>
                </a:lnTo>
                <a:lnTo>
                  <a:pt x="135015" y="20200"/>
                </a:lnTo>
                <a:lnTo>
                  <a:pt x="135015" y="1400"/>
                </a:lnTo>
                <a:close/>
              </a:path>
              <a:path fill="darkenLess" w="136415" h="21600">
                <a:moveTo>
                  <a:pt x="136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015" y="20200"/>
                </a:lnTo>
                <a:close/>
              </a:path>
              <a:path fill="lighten" w="136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3"/>
          <p:cNvSpPr txBox="1"/>
          <p:nvPr/>
        </p:nvSpPr>
        <p:spPr>
          <a:xfrm>
            <a:off x="1447920" y="25909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5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6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7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8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9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0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1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2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3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4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5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6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7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8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9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0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1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2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3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4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5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7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8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9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0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1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2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3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4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5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6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7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8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9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WordArt 2"/>
          <p:cNvSpPr txBox="1"/>
          <p:nvPr/>
        </p:nvSpPr>
        <p:spPr>
          <a:xfrm>
            <a:off x="914400" y="1219320"/>
            <a:ext cx="75438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________ for owning a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 is making your monthl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ments, but I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ed on doing that,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 I lost my car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WordArt 2"/>
          <p:cNvSpPr txBox="1"/>
          <p:nvPr/>
        </p:nvSpPr>
        <p:spPr>
          <a:xfrm>
            <a:off x="685800" y="2438280"/>
            <a:ext cx="7772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requisite, defaul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38" name="AutoShape 6">
            <a:hlinkClick r:id="rId1" action="ppaction://hlinksldjump"/>
          </p:cNvPr>
          <p:cNvSpPr/>
          <p:nvPr/>
        </p:nvSpPr>
        <p:spPr>
          <a:xfrm>
            <a:off x="0" y="3048120"/>
            <a:ext cx="9144000" cy="3809880"/>
          </a:xfrm>
          <a:custGeom>
            <a:avLst/>
            <a:gdLst>
              <a:gd name="textAreaLeft" fmla="*/ 246600 w 9144000"/>
              <a:gd name="textAreaRight" fmla="*/ 8897400 w 9144000"/>
              <a:gd name="textAreaTop" fmla="*/ 246600 h 3809880"/>
              <a:gd name="textAreaBottom" fmla="*/ 3563280 h 3809880"/>
            </a:gdLst>
            <a:ahLst/>
            <a:rect l="textAreaLeft" t="textAreaTop" r="textAreaRight" b="textAreaBottom"/>
            <a:pathLst>
              <a:path w="51839" h="21600">
                <a:moveTo>
                  <a:pt x="0" y="0"/>
                </a:moveTo>
                <a:lnTo>
                  <a:pt x="51839" y="0"/>
                </a:lnTo>
                <a:lnTo>
                  <a:pt x="51839" y="21600"/>
                </a:lnTo>
                <a:lnTo>
                  <a:pt x="0" y="21600"/>
                </a:lnTo>
                <a:close/>
              </a:path>
              <a:path fill="lightenLess" w="51839" h="21600">
                <a:moveTo>
                  <a:pt x="0" y="0"/>
                </a:moveTo>
                <a:lnTo>
                  <a:pt x="51839" y="0"/>
                </a:lnTo>
                <a:lnTo>
                  <a:pt x="50439" y="1400"/>
                </a:lnTo>
                <a:lnTo>
                  <a:pt x="1400" y="1400"/>
                </a:lnTo>
                <a:close/>
              </a:path>
              <a:path fill="darken" w="51839" h="21600">
                <a:moveTo>
                  <a:pt x="51839" y="0"/>
                </a:moveTo>
                <a:lnTo>
                  <a:pt x="51839" y="21600"/>
                </a:lnTo>
                <a:lnTo>
                  <a:pt x="50439" y="20200"/>
                </a:lnTo>
                <a:lnTo>
                  <a:pt x="50439" y="1400"/>
                </a:lnTo>
                <a:close/>
              </a:path>
              <a:path fill="darkenLess" w="51839" h="21600">
                <a:moveTo>
                  <a:pt x="51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9" y="20200"/>
                </a:lnTo>
                <a:close/>
              </a:path>
              <a:path fill="lighten" w="51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4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9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70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71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2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3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4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5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WordArt 2"/>
          <p:cNvSpPr txBox="1"/>
          <p:nvPr/>
        </p:nvSpPr>
        <p:spPr>
          <a:xfrm>
            <a:off x="762120" y="1219320"/>
            <a:ext cx="761976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y quiet bedroom is a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 from the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ud noise in the house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WordArt 2"/>
          <p:cNvSpPr txBox="1"/>
          <p:nvPr/>
        </p:nvSpPr>
        <p:spPr>
          <a:xfrm>
            <a:off x="1295280" y="182880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ctuar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4" name="AutoShape 6">
            <a:hlinkClick r:id="rId1" action="ppaction://hlinksldjump"/>
          </p:cNvPr>
          <p:cNvSpPr/>
          <p:nvPr/>
        </p:nvSpPr>
        <p:spPr>
          <a:xfrm>
            <a:off x="0" y="2895480"/>
            <a:ext cx="9144000" cy="3962520"/>
          </a:xfrm>
          <a:custGeom>
            <a:avLst/>
            <a:gdLst>
              <a:gd name="textAreaLeft" fmla="*/ 256680 w 9144000"/>
              <a:gd name="textAreaRight" fmla="*/ 8887320 w 914400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49842" h="21600">
                <a:moveTo>
                  <a:pt x="0" y="0"/>
                </a:moveTo>
                <a:lnTo>
                  <a:pt x="49842" y="0"/>
                </a:lnTo>
                <a:lnTo>
                  <a:pt x="49842" y="21600"/>
                </a:lnTo>
                <a:lnTo>
                  <a:pt x="0" y="21600"/>
                </a:lnTo>
                <a:close/>
              </a:path>
              <a:path fill="lightenLess" w="49842" h="21600">
                <a:moveTo>
                  <a:pt x="0" y="0"/>
                </a:moveTo>
                <a:lnTo>
                  <a:pt x="49842" y="0"/>
                </a:lnTo>
                <a:lnTo>
                  <a:pt x="48442" y="1400"/>
                </a:lnTo>
                <a:lnTo>
                  <a:pt x="1400" y="1400"/>
                </a:lnTo>
                <a:close/>
              </a:path>
              <a:path fill="darken" w="49842" h="21600">
                <a:moveTo>
                  <a:pt x="49842" y="0"/>
                </a:moveTo>
                <a:lnTo>
                  <a:pt x="49842" y="21600"/>
                </a:lnTo>
                <a:lnTo>
                  <a:pt x="48442" y="20200"/>
                </a:lnTo>
                <a:lnTo>
                  <a:pt x="48442" y="1400"/>
                </a:lnTo>
                <a:close/>
              </a:path>
              <a:path fill="darkenLess" w="49842" h="21600">
                <a:moveTo>
                  <a:pt x="49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2" y="20200"/>
                </a:lnTo>
                <a:close/>
              </a:path>
              <a:path fill="lighten" w="49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8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9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6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WordArt 2" descr=""/>
          <p:cNvPicPr/>
          <p:nvPr/>
        </p:nvPicPr>
        <p:blipFill>
          <a:blip r:embed="rId1"/>
          <a:stretch/>
        </p:blipFill>
        <p:spPr>
          <a:xfrm>
            <a:off x="1206360" y="1359000"/>
            <a:ext cx="6883560" cy="4365360"/>
          </a:xfrm>
          <a:prstGeom prst="rect">
            <a:avLst/>
          </a:prstGeom>
          <a:ln w="0">
            <a:noFill/>
          </a:ln>
        </p:spPr>
      </p:pic>
      <p:sp>
        <p:nvSpPr>
          <p:cNvPr id="8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WordArt 2"/>
          <p:cNvSpPr txBox="1"/>
          <p:nvPr/>
        </p:nvSpPr>
        <p:spPr>
          <a:xfrm>
            <a:off x="1066680" y="2133720"/>
            <a:ext cx="72392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29" name="AutoShape 6">
            <a:hlinkClick r:id="rId1" action="ppaction://hlinksldjump"/>
          </p:cNvPr>
          <p:cNvSpPr/>
          <p:nvPr/>
        </p:nvSpPr>
        <p:spPr>
          <a:xfrm>
            <a:off x="0" y="3657600"/>
            <a:ext cx="9144000" cy="3200400"/>
          </a:xfrm>
          <a:custGeom>
            <a:avLst/>
            <a:gdLst>
              <a:gd name="textAreaLeft" fmla="*/ 207360 w 9144000"/>
              <a:gd name="textAreaRight" fmla="*/ 8936640 w 914400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61710" h="21600">
                <a:moveTo>
                  <a:pt x="0" y="0"/>
                </a:moveTo>
                <a:lnTo>
                  <a:pt x="61710" y="0"/>
                </a:lnTo>
                <a:lnTo>
                  <a:pt x="61710" y="21600"/>
                </a:lnTo>
                <a:lnTo>
                  <a:pt x="0" y="21600"/>
                </a:lnTo>
                <a:close/>
              </a:path>
              <a:path fill="lightenLess" w="61710" h="21600">
                <a:moveTo>
                  <a:pt x="0" y="0"/>
                </a:moveTo>
                <a:lnTo>
                  <a:pt x="61710" y="0"/>
                </a:lnTo>
                <a:lnTo>
                  <a:pt x="60310" y="1400"/>
                </a:lnTo>
                <a:lnTo>
                  <a:pt x="1400" y="1400"/>
                </a:lnTo>
                <a:close/>
              </a:path>
              <a:path fill="darken" w="61710" h="21600">
                <a:moveTo>
                  <a:pt x="61710" y="0"/>
                </a:moveTo>
                <a:lnTo>
                  <a:pt x="61710" y="21600"/>
                </a:lnTo>
                <a:lnTo>
                  <a:pt x="60310" y="20200"/>
                </a:lnTo>
                <a:lnTo>
                  <a:pt x="60310" y="1400"/>
                </a:lnTo>
                <a:close/>
              </a:path>
              <a:path fill="darkenLess" w="61710" h="21600">
                <a:moveTo>
                  <a:pt x="61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10" y="20200"/>
                </a:lnTo>
                <a:close/>
              </a:path>
              <a:path fill="lighten" w="61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31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2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3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5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6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7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8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9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0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1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2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3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4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5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6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7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8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3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5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6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7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8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9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0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1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2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3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4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5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6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143000" y="1371600"/>
            <a:ext cx="7010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WordArt 2"/>
          <p:cNvSpPr txBox="1"/>
          <p:nvPr/>
        </p:nvSpPr>
        <p:spPr>
          <a:xfrm>
            <a:off x="1447920" y="1295280"/>
            <a:ext cx="6629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try to _______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there is a girl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ht; it is too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gerous!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WordArt 2"/>
          <p:cNvSpPr txBox="1"/>
          <p:nvPr/>
        </p:nvSpPr>
        <p:spPr>
          <a:xfrm>
            <a:off x="1219320" y="2362320"/>
            <a:ext cx="6933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ced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4" name="AutoShape 6">
            <a:hlinkClick r:id="rId1" action="ppaction://hlinksldjump"/>
          </p:cNvPr>
          <p:cNvSpPr/>
          <p:nvPr/>
        </p:nvSpPr>
        <p:spPr>
          <a:xfrm>
            <a:off x="0" y="4114800"/>
            <a:ext cx="9144000" cy="3733920"/>
          </a:xfrm>
          <a:custGeom>
            <a:avLst/>
            <a:gdLst>
              <a:gd name="textAreaLeft" fmla="*/ 241920 w 9144000"/>
              <a:gd name="textAreaRight" fmla="*/ 8902080 w 914400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52893" h="21600">
                <a:moveTo>
                  <a:pt x="0" y="0"/>
                </a:moveTo>
                <a:lnTo>
                  <a:pt x="52893" y="0"/>
                </a:lnTo>
                <a:lnTo>
                  <a:pt x="52893" y="21600"/>
                </a:lnTo>
                <a:lnTo>
                  <a:pt x="0" y="21600"/>
                </a:lnTo>
                <a:close/>
              </a:path>
              <a:path fill="lightenLess" w="52893" h="21600">
                <a:moveTo>
                  <a:pt x="0" y="0"/>
                </a:moveTo>
                <a:lnTo>
                  <a:pt x="52893" y="0"/>
                </a:lnTo>
                <a:lnTo>
                  <a:pt x="51493" y="1400"/>
                </a:lnTo>
                <a:lnTo>
                  <a:pt x="1400" y="1400"/>
                </a:lnTo>
                <a:close/>
              </a:path>
              <a:path fill="darken" w="52893" h="21600">
                <a:moveTo>
                  <a:pt x="52893" y="0"/>
                </a:moveTo>
                <a:lnTo>
                  <a:pt x="52893" y="21600"/>
                </a:lnTo>
                <a:lnTo>
                  <a:pt x="51493" y="20200"/>
                </a:lnTo>
                <a:lnTo>
                  <a:pt x="51493" y="1400"/>
                </a:lnTo>
                <a:close/>
              </a:path>
              <a:path fill="darkenLess" w="52893" h="21600">
                <a:moveTo>
                  <a:pt x="52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93" y="20200"/>
                </a:lnTo>
                <a:close/>
              </a:path>
              <a:path fill="lighten" w="52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9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6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WordArt 2" descr=""/>
          <p:cNvPicPr/>
          <p:nvPr/>
        </p:nvPicPr>
        <p:blipFill>
          <a:blip r:embed="rId1"/>
          <a:stretch/>
        </p:blipFill>
        <p:spPr>
          <a:xfrm>
            <a:off x="981000" y="1359000"/>
            <a:ext cx="6956640" cy="4597200"/>
          </a:xfrm>
          <a:prstGeom prst="rect">
            <a:avLst/>
          </a:prstGeom>
          <a:ln w="0">
            <a:noFill/>
          </a:ln>
        </p:spPr>
      </p:pic>
      <p:sp>
        <p:nvSpPr>
          <p:cNvPr id="91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WordArt 2"/>
          <p:cNvSpPr txBox="1"/>
          <p:nvPr/>
        </p:nvSpPr>
        <p:spPr>
          <a:xfrm>
            <a:off x="1143000" y="2514600"/>
            <a:ext cx="7162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19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1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2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3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4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5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6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8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9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0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1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2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3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4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5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6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7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8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9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0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1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2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3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4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5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6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7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8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9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50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51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52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4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5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6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WordArt 2"/>
          <p:cNvSpPr txBox="1"/>
          <p:nvPr/>
        </p:nvSpPr>
        <p:spPr>
          <a:xfrm>
            <a:off x="838080" y="1143000"/>
            <a:ext cx="76201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an was so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oxicated that his speec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  ________  and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 behavior _______ed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o pugnaciousness and anger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WordArt 2"/>
          <p:cNvSpPr txBox="1"/>
          <p:nvPr/>
        </p:nvSpPr>
        <p:spPr>
          <a:xfrm>
            <a:off x="838080" y="2819520"/>
            <a:ext cx="7391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oherent, degenerat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4" name="AutoShape 6">
            <a:hlinkClick r:id="rId1" action="ppaction://hlinksldjump"/>
          </p:cNvPr>
          <p:cNvSpPr/>
          <p:nvPr/>
        </p:nvSpPr>
        <p:spPr>
          <a:xfrm>
            <a:off x="0" y="2971800"/>
            <a:ext cx="9144000" cy="1219320"/>
          </a:xfrm>
          <a:custGeom>
            <a:avLst/>
            <a:gdLst>
              <a:gd name="textAreaLeft" fmla="*/ 78840 w 9144000"/>
              <a:gd name="textAreaRight" fmla="*/ 9065160 w 9144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61943" h="21600">
                <a:moveTo>
                  <a:pt x="0" y="0"/>
                </a:moveTo>
                <a:lnTo>
                  <a:pt x="161943" y="0"/>
                </a:lnTo>
                <a:lnTo>
                  <a:pt x="161943" y="21600"/>
                </a:lnTo>
                <a:lnTo>
                  <a:pt x="0" y="21600"/>
                </a:lnTo>
                <a:close/>
              </a:path>
              <a:path fill="lightenLess" w="161943" h="21600">
                <a:moveTo>
                  <a:pt x="0" y="0"/>
                </a:moveTo>
                <a:lnTo>
                  <a:pt x="161943" y="0"/>
                </a:lnTo>
                <a:lnTo>
                  <a:pt x="160543" y="1400"/>
                </a:lnTo>
                <a:lnTo>
                  <a:pt x="1400" y="1400"/>
                </a:lnTo>
                <a:close/>
              </a:path>
              <a:path fill="darken" w="161943" h="21600">
                <a:moveTo>
                  <a:pt x="161943" y="0"/>
                </a:moveTo>
                <a:lnTo>
                  <a:pt x="161943" y="21600"/>
                </a:lnTo>
                <a:lnTo>
                  <a:pt x="160543" y="20200"/>
                </a:lnTo>
                <a:lnTo>
                  <a:pt x="160543" y="1400"/>
                </a:lnTo>
                <a:close/>
              </a:path>
              <a:path fill="darkenLess" w="161943" h="21600">
                <a:moveTo>
                  <a:pt x="161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43" y="20200"/>
                </a:lnTo>
                <a:close/>
              </a:path>
              <a:path fill="lighten" w="161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9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6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WordArt 2"/>
          <p:cNvSpPr txBox="1"/>
          <p:nvPr/>
        </p:nvSpPr>
        <p:spPr>
          <a:xfrm>
            <a:off x="129528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had _______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stealing m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m's hidden cash,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 I gave it back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143000" y="1371600"/>
            <a:ext cx="7010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lm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0" name="AutoShape 6">
            <a:hlinkClick r:id="rId1" action="ppaction://hlinksldjump"/>
          </p:cNvPr>
          <p:cNvSpPr/>
          <p:nvPr/>
        </p:nvSpPr>
        <p:spPr>
          <a:xfrm>
            <a:off x="0" y="3276720"/>
            <a:ext cx="9144000" cy="3581280"/>
          </a:xfrm>
          <a:custGeom>
            <a:avLst/>
            <a:gdLst>
              <a:gd name="textAreaLeft" fmla="*/ 231840 w 9144000"/>
              <a:gd name="textAreaRight" fmla="*/ 8912160 w 9144000"/>
              <a:gd name="textAreaTop" fmla="*/ 231840 h 3581280"/>
              <a:gd name="textAreaBottom" fmla="*/ 3349440 h 3581280"/>
            </a:gdLst>
            <a:ahLst/>
            <a:rect l="textAreaLeft" t="textAreaTop" r="textAreaRight" b="textAreaBottom"/>
            <a:pathLst>
              <a:path w="55147" h="21600">
                <a:moveTo>
                  <a:pt x="0" y="0"/>
                </a:moveTo>
                <a:lnTo>
                  <a:pt x="55147" y="0"/>
                </a:lnTo>
                <a:lnTo>
                  <a:pt x="55147" y="21600"/>
                </a:lnTo>
                <a:lnTo>
                  <a:pt x="0" y="21600"/>
                </a:lnTo>
                <a:close/>
              </a:path>
              <a:path fill="lightenLess" w="55147" h="21600">
                <a:moveTo>
                  <a:pt x="0" y="0"/>
                </a:moveTo>
                <a:lnTo>
                  <a:pt x="55147" y="0"/>
                </a:lnTo>
                <a:lnTo>
                  <a:pt x="53747" y="1400"/>
                </a:lnTo>
                <a:lnTo>
                  <a:pt x="1400" y="1400"/>
                </a:lnTo>
                <a:close/>
              </a:path>
              <a:path fill="darken" w="55147" h="21600">
                <a:moveTo>
                  <a:pt x="55147" y="0"/>
                </a:moveTo>
                <a:lnTo>
                  <a:pt x="55147" y="21600"/>
                </a:lnTo>
                <a:lnTo>
                  <a:pt x="53747" y="20200"/>
                </a:lnTo>
                <a:lnTo>
                  <a:pt x="53747" y="1400"/>
                </a:lnTo>
                <a:close/>
              </a:path>
              <a:path fill="darkenLess" w="55147" h="21600">
                <a:moveTo>
                  <a:pt x="55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47" y="20200"/>
                </a:lnTo>
                <a:close/>
              </a:path>
              <a:path fill="lighten" w="55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5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2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WordArt 2"/>
          <p:cNvSpPr txBox="1"/>
          <p:nvPr/>
        </p:nvSpPr>
        <p:spPr>
          <a:xfrm>
            <a:off x="990720" y="12193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ziness is a terribl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 on a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udent's academic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ccess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2"/>
          <p:cNvSpPr txBox="1"/>
          <p:nvPr/>
        </p:nvSpPr>
        <p:spPr>
          <a:xfrm>
            <a:off x="1143000" y="228600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igh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55" name="AutoShape 6">
            <a:hlinkClick r:id="rId1" action="ppaction://hlinksldjump"/>
          </p:cNvPr>
          <p:cNvSpPr/>
          <p:nvPr/>
        </p:nvSpPr>
        <p:spPr>
          <a:xfrm>
            <a:off x="0" y="4876920"/>
            <a:ext cx="9144000" cy="1981080"/>
          </a:xfrm>
          <a:custGeom>
            <a:avLst/>
            <a:gdLst>
              <a:gd name="textAreaLeft" fmla="*/ 128160 w 9144000"/>
              <a:gd name="textAreaRight" fmla="*/ 9015840 w 914400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99684" h="21600">
                <a:moveTo>
                  <a:pt x="0" y="0"/>
                </a:moveTo>
                <a:lnTo>
                  <a:pt x="99684" y="0"/>
                </a:lnTo>
                <a:lnTo>
                  <a:pt x="99684" y="21600"/>
                </a:lnTo>
                <a:lnTo>
                  <a:pt x="0" y="21600"/>
                </a:lnTo>
                <a:close/>
              </a:path>
              <a:path fill="lightenLess" w="99684" h="21600">
                <a:moveTo>
                  <a:pt x="0" y="0"/>
                </a:moveTo>
                <a:lnTo>
                  <a:pt x="99684" y="0"/>
                </a:lnTo>
                <a:lnTo>
                  <a:pt x="98284" y="1400"/>
                </a:lnTo>
                <a:lnTo>
                  <a:pt x="1400" y="1400"/>
                </a:lnTo>
                <a:close/>
              </a:path>
              <a:path fill="darken" w="99684" h="21600">
                <a:moveTo>
                  <a:pt x="99684" y="0"/>
                </a:moveTo>
                <a:lnTo>
                  <a:pt x="99684" y="21600"/>
                </a:lnTo>
                <a:lnTo>
                  <a:pt x="98284" y="20200"/>
                </a:lnTo>
                <a:lnTo>
                  <a:pt x="98284" y="1400"/>
                </a:lnTo>
                <a:close/>
              </a:path>
              <a:path fill="darkenLess" w="99684" h="21600">
                <a:moveTo>
                  <a:pt x="99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284" y="20200"/>
                </a:lnTo>
                <a:close/>
              </a:path>
              <a:path fill="lighten" w="99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7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8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9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0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1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2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WordArt 2" descr=""/>
          <p:cNvPicPr/>
          <p:nvPr/>
        </p:nvPicPr>
        <p:blipFill>
          <a:blip r:embed="rId1"/>
          <a:stretch/>
        </p:blipFill>
        <p:spPr>
          <a:xfrm>
            <a:off x="749160" y="901800"/>
            <a:ext cx="7871040" cy="5359320"/>
          </a:xfrm>
          <a:prstGeom prst="rect">
            <a:avLst/>
          </a:prstGeom>
          <a:ln w="0">
            <a:noFill/>
          </a:ln>
        </p:spPr>
      </p:pic>
      <p:sp>
        <p:nvSpPr>
          <p:cNvPr id="109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WordArt 2"/>
          <p:cNvSpPr txBox="1"/>
          <p:nvPr/>
        </p:nvSpPr>
        <p:spPr>
          <a:xfrm>
            <a:off x="1752480" y="2209680"/>
            <a:ext cx="5562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0" name="AutoShape 6">
            <a:hlinkClick r:id="rId1" action="ppaction://hlinksldjump"/>
          </p:cNvPr>
          <p:cNvSpPr/>
          <p:nvPr/>
        </p:nvSpPr>
        <p:spPr>
          <a:xfrm>
            <a:off x="0" y="3352680"/>
            <a:ext cx="9144000" cy="3505320"/>
          </a:xfrm>
          <a:custGeom>
            <a:avLst/>
            <a:gdLst>
              <a:gd name="textAreaLeft" fmla="*/ 227160 w 9144000"/>
              <a:gd name="textAreaRight" fmla="*/ 8916840 w 9144000"/>
              <a:gd name="textAreaTop" fmla="*/ 227160 h 3505320"/>
              <a:gd name="textAreaBottom" fmla="*/ 3278160 h 3505320"/>
            </a:gdLst>
            <a:ahLst/>
            <a:rect l="textAreaLeft" t="textAreaTop" r="textAreaRight" b="textAreaBottom"/>
            <a:pathLst>
              <a:path w="56342" h="21600">
                <a:moveTo>
                  <a:pt x="0" y="0"/>
                </a:moveTo>
                <a:lnTo>
                  <a:pt x="56342" y="0"/>
                </a:lnTo>
                <a:lnTo>
                  <a:pt x="56342" y="21600"/>
                </a:lnTo>
                <a:lnTo>
                  <a:pt x="0" y="21600"/>
                </a:lnTo>
                <a:close/>
              </a:path>
              <a:path fill="lightenLess" w="56342" h="21600">
                <a:moveTo>
                  <a:pt x="0" y="0"/>
                </a:moveTo>
                <a:lnTo>
                  <a:pt x="56342" y="0"/>
                </a:lnTo>
                <a:lnTo>
                  <a:pt x="54942" y="1400"/>
                </a:lnTo>
                <a:lnTo>
                  <a:pt x="1400" y="1400"/>
                </a:lnTo>
                <a:close/>
              </a:path>
              <a:path fill="darken" w="56342" h="21600">
                <a:moveTo>
                  <a:pt x="56342" y="0"/>
                </a:moveTo>
                <a:lnTo>
                  <a:pt x="56342" y="21600"/>
                </a:lnTo>
                <a:lnTo>
                  <a:pt x="54942" y="20200"/>
                </a:lnTo>
                <a:lnTo>
                  <a:pt x="54942" y="1400"/>
                </a:lnTo>
                <a:close/>
              </a:path>
              <a:path fill="darkenLess" w="56342" h="21600">
                <a:moveTo>
                  <a:pt x="5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42" y="20200"/>
                </a:lnTo>
                <a:close/>
              </a:path>
              <a:path fill="lighten" w="5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5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2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4880" y="1133640"/>
            <a:ext cx="7419960" cy="4895640"/>
          </a:xfrm>
          <a:prstGeom prst="rect">
            <a:avLst/>
          </a:prstGeom>
          <a:ln w="0">
            <a:noFill/>
          </a:ln>
        </p:spPr>
      </p:pic>
      <p:sp>
        <p:nvSpPr>
          <p:cNvPr id="113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WordArt 2"/>
          <p:cNvSpPr txBox="1"/>
          <p:nvPr/>
        </p:nvSpPr>
        <p:spPr>
          <a:xfrm>
            <a:off x="914400" y="2362320"/>
            <a:ext cx="7391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5" name="AutoShape 6">
            <a:hlinkClick r:id="rId1" action="ppaction://hlinksldjump"/>
          </p:cNvPr>
          <p:cNvSpPr/>
          <p:nvPr/>
        </p:nvSpPr>
        <p:spPr>
          <a:xfrm>
            <a:off x="0" y="34290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" name="AutoShape 74">
            <a:hlinkClick r:id="rId36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7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8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9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0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1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2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WordArt 2"/>
          <p:cNvSpPr txBox="1"/>
          <p:nvPr/>
        </p:nvSpPr>
        <p:spPr>
          <a:xfrm>
            <a:off x="1371600" y="1066680"/>
            <a:ext cx="6553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 was _______ tha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tient had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ting disorder;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e looked so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 and sickly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WordArt 2"/>
          <p:cNvSpPr txBox="1"/>
          <p:nvPr/>
        </p:nvSpPr>
        <p:spPr>
          <a:xfrm>
            <a:off x="1066680" y="304812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atant, gau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0" name="AutoShape 6">
            <a:hlinkClick r:id="rId1" action="ppaction://hlinksldjump"/>
          </p:cNvPr>
          <p:cNvSpPr/>
          <p:nvPr/>
        </p:nvSpPr>
        <p:spPr>
          <a:xfrm>
            <a:off x="0" y="2971800"/>
            <a:ext cx="9144000" cy="3886200"/>
          </a:xfrm>
          <a:custGeom>
            <a:avLst/>
            <a:gdLst>
              <a:gd name="textAreaLeft" fmla="*/ 251640 w 9144000"/>
              <a:gd name="textAreaRight" fmla="*/ 8892360 w 91440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50821" h="21600">
                <a:moveTo>
                  <a:pt x="0" y="0"/>
                </a:moveTo>
                <a:lnTo>
                  <a:pt x="50821" y="0"/>
                </a:lnTo>
                <a:lnTo>
                  <a:pt x="50821" y="21600"/>
                </a:lnTo>
                <a:lnTo>
                  <a:pt x="0" y="21600"/>
                </a:lnTo>
                <a:close/>
              </a:path>
              <a:path fill="lightenLess" w="50821" h="21600">
                <a:moveTo>
                  <a:pt x="0" y="0"/>
                </a:moveTo>
                <a:lnTo>
                  <a:pt x="50821" y="0"/>
                </a:lnTo>
                <a:lnTo>
                  <a:pt x="49421" y="1400"/>
                </a:lnTo>
                <a:lnTo>
                  <a:pt x="1400" y="1400"/>
                </a:lnTo>
                <a:close/>
              </a:path>
              <a:path fill="darken" w="50821" h="21600">
                <a:moveTo>
                  <a:pt x="50821" y="0"/>
                </a:moveTo>
                <a:lnTo>
                  <a:pt x="50821" y="21600"/>
                </a:lnTo>
                <a:lnTo>
                  <a:pt x="49421" y="20200"/>
                </a:lnTo>
                <a:lnTo>
                  <a:pt x="49421" y="1400"/>
                </a:lnTo>
                <a:close/>
              </a:path>
              <a:path fill="darkenLess" w="50821" h="21600">
                <a:moveTo>
                  <a:pt x="50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421" y="20200"/>
                </a:lnTo>
                <a:close/>
              </a:path>
              <a:path fill="lighten" w="50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5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2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WordArt 2" descr=""/>
          <p:cNvPicPr/>
          <p:nvPr/>
        </p:nvPicPr>
        <p:blipFill>
          <a:blip r:embed="rId1"/>
          <a:stretch/>
        </p:blipFill>
        <p:spPr>
          <a:xfrm>
            <a:off x="749160" y="1511280"/>
            <a:ext cx="7493040" cy="3603600"/>
          </a:xfrm>
          <a:prstGeom prst="rect">
            <a:avLst/>
          </a:prstGeom>
          <a:ln w="0">
            <a:noFill/>
          </a:ln>
        </p:spPr>
      </p:pic>
      <p:sp>
        <p:nvSpPr>
          <p:cNvPr id="12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WordArt 2"/>
          <p:cNvSpPr txBox="1"/>
          <p:nvPr/>
        </p:nvSpPr>
        <p:spPr>
          <a:xfrm>
            <a:off x="1295280" y="1828800"/>
            <a:ext cx="70106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36" name="AutoShape 6">
            <a:hlinkClick r:id="rId1" action="ppaction://hlinksldjump"/>
          </p:cNvPr>
          <p:cNvSpPr/>
          <p:nvPr/>
        </p:nvSpPr>
        <p:spPr>
          <a:xfrm>
            <a:off x="0" y="2895480"/>
            <a:ext cx="9144000" cy="3962520"/>
          </a:xfrm>
          <a:custGeom>
            <a:avLst/>
            <a:gdLst>
              <a:gd name="textAreaLeft" fmla="*/ 256680 w 9144000"/>
              <a:gd name="textAreaRight" fmla="*/ 8887320 w 914400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49842" h="21600">
                <a:moveTo>
                  <a:pt x="0" y="0"/>
                </a:moveTo>
                <a:lnTo>
                  <a:pt x="49842" y="0"/>
                </a:lnTo>
                <a:lnTo>
                  <a:pt x="49842" y="21600"/>
                </a:lnTo>
                <a:lnTo>
                  <a:pt x="0" y="21600"/>
                </a:lnTo>
                <a:close/>
              </a:path>
              <a:path fill="lightenLess" w="49842" h="21600">
                <a:moveTo>
                  <a:pt x="0" y="0"/>
                </a:moveTo>
                <a:lnTo>
                  <a:pt x="49842" y="0"/>
                </a:lnTo>
                <a:lnTo>
                  <a:pt x="48442" y="1400"/>
                </a:lnTo>
                <a:lnTo>
                  <a:pt x="1400" y="1400"/>
                </a:lnTo>
                <a:close/>
              </a:path>
              <a:path fill="darken" w="49842" h="21600">
                <a:moveTo>
                  <a:pt x="49842" y="0"/>
                </a:moveTo>
                <a:lnTo>
                  <a:pt x="49842" y="21600"/>
                </a:lnTo>
                <a:lnTo>
                  <a:pt x="48442" y="20200"/>
                </a:lnTo>
                <a:lnTo>
                  <a:pt x="48442" y="1400"/>
                </a:lnTo>
                <a:close/>
              </a:path>
              <a:path fill="darkenLess" w="49842" h="21600">
                <a:moveTo>
                  <a:pt x="49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2" y="20200"/>
                </a:lnTo>
                <a:close/>
              </a:path>
              <a:path fill="lighten" w="49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3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1800" y="981000"/>
            <a:ext cx="7493040" cy="5048280"/>
          </a:xfrm>
          <a:prstGeom prst="rect">
            <a:avLst/>
          </a:prstGeom>
          <a:ln w="0">
            <a:noFill/>
          </a:ln>
        </p:spPr>
      </p:pic>
      <p:sp>
        <p:nvSpPr>
          <p:cNvPr id="127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WordArt 2"/>
          <p:cNvSpPr txBox="1"/>
          <p:nvPr/>
        </p:nvSpPr>
        <p:spPr>
          <a:xfrm>
            <a:off x="1143000" y="1219320"/>
            <a:ext cx="70866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you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1" name="AutoShape 6">
            <a:hlinkClick r:id="rId1" action="ppaction://hlinksldjump"/>
          </p:cNvPr>
          <p:cNvSpPr/>
          <p:nvPr/>
        </p:nvSpPr>
        <p:spPr>
          <a:xfrm>
            <a:off x="0" y="3124080"/>
            <a:ext cx="9144000" cy="3733920"/>
          </a:xfrm>
          <a:custGeom>
            <a:avLst/>
            <a:gdLst>
              <a:gd name="textAreaLeft" fmla="*/ 241920 w 9144000"/>
              <a:gd name="textAreaRight" fmla="*/ 8902080 w 914400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52893" h="21600">
                <a:moveTo>
                  <a:pt x="0" y="0"/>
                </a:moveTo>
                <a:lnTo>
                  <a:pt x="52893" y="0"/>
                </a:lnTo>
                <a:lnTo>
                  <a:pt x="52893" y="21600"/>
                </a:lnTo>
                <a:lnTo>
                  <a:pt x="0" y="21600"/>
                </a:lnTo>
                <a:close/>
              </a:path>
              <a:path fill="lightenLess" w="52893" h="21600">
                <a:moveTo>
                  <a:pt x="0" y="0"/>
                </a:moveTo>
                <a:lnTo>
                  <a:pt x="52893" y="0"/>
                </a:lnTo>
                <a:lnTo>
                  <a:pt x="51493" y="1400"/>
                </a:lnTo>
                <a:lnTo>
                  <a:pt x="1400" y="1400"/>
                </a:lnTo>
                <a:close/>
              </a:path>
              <a:path fill="darken" w="52893" h="21600">
                <a:moveTo>
                  <a:pt x="52893" y="0"/>
                </a:moveTo>
                <a:lnTo>
                  <a:pt x="52893" y="21600"/>
                </a:lnTo>
                <a:lnTo>
                  <a:pt x="51493" y="20200"/>
                </a:lnTo>
                <a:lnTo>
                  <a:pt x="51493" y="1400"/>
                </a:lnTo>
                <a:close/>
              </a:path>
              <a:path fill="darkenLess" w="52893" h="21600">
                <a:moveTo>
                  <a:pt x="52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93" y="20200"/>
                </a:lnTo>
                <a:close/>
              </a:path>
              <a:path fill="lighten" w="52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6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3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143000" y="2819520"/>
            <a:ext cx="7010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tore to normal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WordArt 2" descr=""/>
          <p:cNvPicPr/>
          <p:nvPr/>
        </p:nvPicPr>
        <p:blipFill>
          <a:blip r:embed="rId1"/>
          <a:stretch/>
        </p:blipFill>
        <p:spPr>
          <a:xfrm>
            <a:off x="749160" y="987480"/>
            <a:ext cx="7791480" cy="527364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WordArt 2"/>
          <p:cNvSpPr txBox="1"/>
          <p:nvPr/>
        </p:nvSpPr>
        <p:spPr>
          <a:xfrm>
            <a:off x="1143000" y="1828800"/>
            <a:ext cx="7162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26" name="AutoShape 6">
            <a:hlinkClick r:id="rId1" action="ppaction://hlinksldjump"/>
          </p:cNvPr>
          <p:cNvSpPr/>
          <p:nvPr/>
        </p:nvSpPr>
        <p:spPr>
          <a:xfrm>
            <a:off x="0" y="2666880"/>
            <a:ext cx="9144000" cy="4191120"/>
          </a:xfrm>
          <a:custGeom>
            <a:avLst/>
            <a:gdLst>
              <a:gd name="textAreaLeft" fmla="*/ 271440 w 9144000"/>
              <a:gd name="textAreaRight" fmla="*/ 8872560 w 9144000"/>
              <a:gd name="textAreaTop" fmla="*/ 271440 h 4191120"/>
              <a:gd name="textAreaBottom" fmla="*/ 3919680 h 4191120"/>
            </a:gdLst>
            <a:ahLst/>
            <a:rect l="textAreaLeft" t="textAreaTop" r="textAreaRight" b="textAreaBottom"/>
            <a:pathLst>
              <a:path w="47124" h="21600">
                <a:moveTo>
                  <a:pt x="0" y="0"/>
                </a:moveTo>
                <a:lnTo>
                  <a:pt x="47124" y="0"/>
                </a:lnTo>
                <a:lnTo>
                  <a:pt x="47124" y="21600"/>
                </a:lnTo>
                <a:lnTo>
                  <a:pt x="0" y="21600"/>
                </a:lnTo>
                <a:close/>
              </a:path>
              <a:path fill="lightenLess" w="47124" h="21600">
                <a:moveTo>
                  <a:pt x="0" y="0"/>
                </a:moveTo>
                <a:lnTo>
                  <a:pt x="47124" y="0"/>
                </a:lnTo>
                <a:lnTo>
                  <a:pt x="45724" y="1400"/>
                </a:lnTo>
                <a:lnTo>
                  <a:pt x="1400" y="1400"/>
                </a:lnTo>
                <a:close/>
              </a:path>
              <a:path fill="darken" w="47124" h="21600">
                <a:moveTo>
                  <a:pt x="47124" y="0"/>
                </a:moveTo>
                <a:lnTo>
                  <a:pt x="47124" y="21600"/>
                </a:lnTo>
                <a:lnTo>
                  <a:pt x="45724" y="20200"/>
                </a:lnTo>
                <a:lnTo>
                  <a:pt x="45724" y="1400"/>
                </a:lnTo>
                <a:close/>
              </a:path>
              <a:path fill="darkenLess" w="47124" h="21600">
                <a:moveTo>
                  <a:pt x="47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24" y="20200"/>
                </a:lnTo>
                <a:close/>
              </a:path>
              <a:path fill="lighten" w="47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2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WordArt 2" descr=""/>
          <p:cNvPicPr/>
          <p:nvPr/>
        </p:nvPicPr>
        <p:blipFill>
          <a:blip r:embed="rId1"/>
          <a:stretch/>
        </p:blipFill>
        <p:spPr>
          <a:xfrm>
            <a:off x="901800" y="1133640"/>
            <a:ext cx="7565760" cy="4975200"/>
          </a:xfrm>
          <a:prstGeom prst="rect">
            <a:avLst/>
          </a:prstGeom>
          <a:ln w="0">
            <a:noFill/>
          </a:ln>
        </p:spPr>
      </p:pic>
      <p:sp>
        <p:nvSpPr>
          <p:cNvPr id="13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WordArt 2"/>
          <p:cNvSpPr txBox="1"/>
          <p:nvPr/>
        </p:nvSpPr>
        <p:spPr>
          <a:xfrm>
            <a:off x="990720" y="2133720"/>
            <a:ext cx="7315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d’s fathe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1" name="AutoShape 6">
            <a:hlinkClick r:id="rId1" action="ppaction://hlinksldjump"/>
          </p:cNvPr>
          <p:cNvSpPr/>
          <p:nvPr/>
        </p:nvSpPr>
        <p:spPr>
          <a:xfrm>
            <a:off x="0" y="2971800"/>
            <a:ext cx="9144000" cy="3886200"/>
          </a:xfrm>
          <a:custGeom>
            <a:avLst/>
            <a:gdLst>
              <a:gd name="textAreaLeft" fmla="*/ 251640 w 9144000"/>
              <a:gd name="textAreaRight" fmla="*/ 8892360 w 91440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50821" h="21600">
                <a:moveTo>
                  <a:pt x="0" y="0"/>
                </a:moveTo>
                <a:lnTo>
                  <a:pt x="50821" y="0"/>
                </a:lnTo>
                <a:lnTo>
                  <a:pt x="50821" y="21600"/>
                </a:lnTo>
                <a:lnTo>
                  <a:pt x="0" y="21600"/>
                </a:lnTo>
                <a:close/>
              </a:path>
              <a:path fill="lightenLess" w="50821" h="21600">
                <a:moveTo>
                  <a:pt x="0" y="0"/>
                </a:moveTo>
                <a:lnTo>
                  <a:pt x="50821" y="0"/>
                </a:lnTo>
                <a:lnTo>
                  <a:pt x="49421" y="1400"/>
                </a:lnTo>
                <a:lnTo>
                  <a:pt x="1400" y="1400"/>
                </a:lnTo>
                <a:close/>
              </a:path>
              <a:path fill="darken" w="50821" h="21600">
                <a:moveTo>
                  <a:pt x="50821" y="0"/>
                </a:moveTo>
                <a:lnTo>
                  <a:pt x="50821" y="21600"/>
                </a:lnTo>
                <a:lnTo>
                  <a:pt x="49421" y="20200"/>
                </a:lnTo>
                <a:lnTo>
                  <a:pt x="49421" y="1400"/>
                </a:lnTo>
                <a:close/>
              </a:path>
              <a:path fill="darkenLess" w="50821" h="21600">
                <a:moveTo>
                  <a:pt x="50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421" y="20200"/>
                </a:lnTo>
                <a:close/>
              </a:path>
              <a:path fill="lighten" w="50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6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4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0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3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3" name="AutoShape 74">
            <a:hlinkClick r:id="rId35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4880" y="1060560"/>
            <a:ext cx="7492680" cy="5121000"/>
          </a:xfrm>
          <a:prstGeom prst="rect">
            <a:avLst/>
          </a:prstGeom>
          <a:ln w="0">
            <a:noFill/>
          </a:ln>
        </p:spPr>
      </p:pic>
      <p:sp>
        <p:nvSpPr>
          <p:cNvPr id="141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WordArt 2"/>
          <p:cNvSpPr txBox="1"/>
          <p:nvPr/>
        </p:nvSpPr>
        <p:spPr>
          <a:xfrm>
            <a:off x="1066680" y="182880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wardl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16" name="AutoShape 6">
            <a:hlinkClick r:id="rId1" action="ppaction://hlinksldjump"/>
          </p:cNvPr>
          <p:cNvSpPr/>
          <p:nvPr/>
        </p:nvSpPr>
        <p:spPr>
          <a:xfrm>
            <a:off x="0" y="3124080"/>
            <a:ext cx="9144000" cy="3733920"/>
          </a:xfrm>
          <a:custGeom>
            <a:avLst/>
            <a:gdLst>
              <a:gd name="textAreaLeft" fmla="*/ 241920 w 9144000"/>
              <a:gd name="textAreaRight" fmla="*/ 8902080 w 914400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52893" h="21600">
                <a:moveTo>
                  <a:pt x="0" y="0"/>
                </a:moveTo>
                <a:lnTo>
                  <a:pt x="52893" y="0"/>
                </a:lnTo>
                <a:lnTo>
                  <a:pt x="52893" y="21600"/>
                </a:lnTo>
                <a:lnTo>
                  <a:pt x="0" y="21600"/>
                </a:lnTo>
                <a:close/>
              </a:path>
              <a:path fill="lightenLess" w="52893" h="21600">
                <a:moveTo>
                  <a:pt x="0" y="0"/>
                </a:moveTo>
                <a:lnTo>
                  <a:pt x="52893" y="0"/>
                </a:lnTo>
                <a:lnTo>
                  <a:pt x="51493" y="1400"/>
                </a:lnTo>
                <a:lnTo>
                  <a:pt x="1400" y="1400"/>
                </a:lnTo>
                <a:close/>
              </a:path>
              <a:path fill="darken" w="52893" h="21600">
                <a:moveTo>
                  <a:pt x="52893" y="0"/>
                </a:moveTo>
                <a:lnTo>
                  <a:pt x="52893" y="21600"/>
                </a:lnTo>
                <a:lnTo>
                  <a:pt x="51493" y="20200"/>
                </a:lnTo>
                <a:lnTo>
                  <a:pt x="51493" y="1400"/>
                </a:lnTo>
                <a:close/>
              </a:path>
              <a:path fill="darkenLess" w="52893" h="21600">
                <a:moveTo>
                  <a:pt x="52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93" y="20200"/>
                </a:lnTo>
                <a:close/>
              </a:path>
              <a:path fill="lighten" w="52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1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1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4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0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3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8" name="AutoShape 74">
            <a:hlinkClick r:id="rId35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5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5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5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>
              <a:gd name="textAreaLeft" fmla="*/ 235440 w 761760"/>
              <a:gd name="textAreaRight" fmla="*/ 526320 w 76176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5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>
              <a:gd name="textAreaLeft" fmla="*/ 235440 w 761760"/>
              <a:gd name="textAreaRight" fmla="*/ 526320 w 76176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5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>
              <a:gd name="textAreaLeft" fmla="*/ 235440 w 761760"/>
              <a:gd name="textAreaRight" fmla="*/ 526320 w 76176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mcdx62</cp:lastModifiedBy>
  <dcterms:modified xsi:type="dcterms:W3CDTF">2012-05-15T18:04:53Z</dcterms:modified>
  <cp:revision>18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p44Y1t95Go1vxtRVMFcfUotkwqdiyF_8sCIBZ6bTXG4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5238583436338501431</vt:lpwstr>
  </property>
  <property fmtid="{D5CDD505-2E9C-101B-9397-08002B2CF9AE}" pid="6" name="Google.Documents.RevisionId">
    <vt:lpwstr>16800177532673418108</vt:lpwstr>
  </property>
  <property fmtid="{D5CDD505-2E9C-101B-9397-08002B2CF9AE}" pid="7" name="Google.Documents.Tracking">
    <vt:lpwstr>false</vt:lpwstr>
  </property>
</Properties>
</file>